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F09-F8D2-4C0F-BC24-32587D68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58A-6A61-4786-990A-01AEA801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081-D0A8-4896-BFB6-5AE084A7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E80-9C70-4C0B-AE3C-EAF26064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D128-0BF1-49BE-9C8D-1E51D337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86C7-CFD4-4A24-8342-7068A5D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C05-2897-4E15-87C7-12D2EABC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7024-AD69-4867-AF32-CE4D6B91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3344-E4BE-4551-977B-1854148F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275A-C683-46C3-A14D-099E7644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61C4-0EE4-4763-8744-105AE32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25C-23EC-4A52-8AF8-B3407D23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3419-F2D6-434B-B8E8-ADAEBABE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00AE-76CB-49C2-9CC8-A35C7BD5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EAF5-3C7E-4CEC-9FC5-6F118FC4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157A-9907-4D85-9366-08ACBC9F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E66F-85C5-4C1D-96D9-AB614880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B90-6BF1-41BE-B20A-86B38D18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E47-76A5-4883-A949-A365CB8D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6AB-F1E8-410D-8572-101BE153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69B-BAC9-4652-A67E-13F3370B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535-1806-4911-97B9-9A49D026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2AA-E69A-4F1C-B259-A3F50EA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C03-5892-46BF-92D1-C868790B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E85F-1F2D-472C-A596-11EB2D9B835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B89A-F18C-4A2D-A971-BAB2E0B678E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" TargetMode="External"/><Relationship Id="rId2" Type="http://schemas.openxmlformats.org/officeDocument/2006/relationships/hyperlink" Target="http://www.auladeeconomia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6633"/>
                </a:solidFill>
                <a:latin typeface="Garamond"/>
              </a:rPr>
              <a:t>Teoría de la decisión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Métodos Cuanti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Lic. Gabriel Leandro, 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41680" y="6051600"/>
            <a:ext cx="4702320" cy="8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Componentes y estructur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0000"/>
                </a:solidFill>
                <a:latin typeface="Arial"/>
              </a:rPr>
              <a:t>Probabilidades</a:t>
            </a: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 de que ocurran los eventos posi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0000"/>
                </a:solidFill>
                <a:latin typeface="Arial"/>
              </a:rPr>
              <a:t>Resultados</a:t>
            </a: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 de las posibles interacciones entre las alternativas de decisión y los eventos. También se les conoce con el nombre de </a:t>
            </a:r>
            <a:r>
              <a:rPr b="1" i="1" lang="es-ES_tradnl" sz="3400" spc="-1" strike="noStrike">
                <a:solidFill>
                  <a:srgbClr val="000000"/>
                </a:solidFill>
                <a:latin typeface="Arial"/>
              </a:rPr>
              <a:t>Pag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Componentes y estructur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s árboles de decisión posee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mas: se representan con lín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dos de decisión: de ellos salen las ramas de decisión y se representan con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dos de incertidumbre: de ellos salen las ramas de los eventos y se representan con </a:t>
            </a:r>
            <a:r>
              <a:rPr b="1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Componentes y estructura: ejemp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23080" y="1719360"/>
            <a:ext cx="8223480" cy="4196160"/>
            <a:chOff x="523080" y="1719360"/>
            <a:chExt cx="8223480" cy="4196160"/>
          </a:xfrm>
        </p:grpSpPr>
        <p:sp>
          <p:nvSpPr>
            <p:cNvPr id="114" name=""/>
            <p:cNvSpPr/>
            <p:nvPr/>
          </p:nvSpPr>
          <p:spPr>
            <a:xfrm>
              <a:off x="806400" y="4281480"/>
              <a:ext cx="45252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258920" y="3287520"/>
              <a:ext cx="981000" cy="11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9040" y="3013200"/>
              <a:ext cx="534960" cy="549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58920" y="4479840"/>
              <a:ext cx="712800" cy="12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39920" y="328788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71720" y="5767560"/>
              <a:ext cx="22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734000" y="2092320"/>
              <a:ext cx="98100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34000" y="3286080"/>
              <a:ext cx="712800" cy="12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09232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46800" y="4564080"/>
              <a:ext cx="22287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34000" y="3287880"/>
              <a:ext cx="294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23440" y="28861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ternativ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5520" y="541008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ternativ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64400" y="1719360"/>
              <a:ext cx="189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ent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(Evento 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4400" y="2943360"/>
              <a:ext cx="189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ent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(Evento 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4400" y="4240080"/>
              <a:ext cx="197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ent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(Evento 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36040" y="187956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g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9800" y="306864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g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59800" y="432756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g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35840" y="551664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go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22400" y="472428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22400" y="2708280"/>
              <a:ext cx="0" cy="15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3080" y="213372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nt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Análisis: criterio del Valor Monetario Esper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mente se inicia de derecha a izquierda, calculando cada pago al final de las ram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uego en cada nodo de evento se calcula un valor espera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spués en cada punto de decisión se selecciona la alternativa con el valor esperado ópti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Análisis: ejemplo de la rif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806400" y="4281480"/>
            <a:ext cx="452520" cy="44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58920" y="3287520"/>
            <a:ext cx="981000" cy="11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9040" y="3013200"/>
            <a:ext cx="5349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4479840"/>
            <a:ext cx="71280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39920" y="3287880"/>
            <a:ext cx="195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1720" y="5767560"/>
            <a:ext cx="227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734000" y="2092320"/>
            <a:ext cx="981000" cy="11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4000" y="3286080"/>
            <a:ext cx="712800" cy="12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092320"/>
            <a:ext cx="195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446800" y="4564080"/>
            <a:ext cx="22287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23800" y="28861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ega la ri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25520" y="541008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juega la ri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4400" y="1719360"/>
            <a:ext cx="18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4400" y="424008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34600" y="1879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¢49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58000" y="43275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¢ -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36560" y="5516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¢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2240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22400" y="270828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3080" y="213372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9000" y="2701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763280" y="3644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57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Análisis: ejemplo de la rif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el nodo de evento se calculó el valor esperado de jugar la rif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uego se selecciona, en este caso el valor más alto (por ser ganancia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decisión desechada se marca con \\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este caso la decisión es no jugar la rif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Árboles de decisión: ejemp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362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Un fabricante está considerando la producción de un nuevo producto. La utilidad incremental es de $10 por unidad y la inversión necesaria en equipo es de $50.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l estimado de la demanda es como sigu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17560" y="3860640"/>
          <a:ext cx="7570800" cy="219096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da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ejemplo (continuación)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Tiene la opción de seguir con el producto actual que le representa ventas de 2.500 unidades con una utilidad de $5.5/unidad sin publicidad, con la opción de que si destina $14.000 en publicidad podría, con una probabilidad de 80% conseguir ventas de 5.500 unidades y de un 20% de que éstas sean de 4.000 un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onstruya el árbol de decisión y determine la decisión ópt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ejemplo: La decisión de Larr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 última semana Larry ha recibido 3 propuestas matrimoniales de 3 mujeres distintas y debe escoger una. Ha determinado que sus atributos físicos y emocionales son más o menos los mismos, y entonces elegirá según sus recurs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imera se llama Jenny. Tiene un padre rico que sufre de artritis crónica. Larry calcula una probabilidad de 0.3 de que muera pronto y les herede $100.000. Si el padre tiene una larga vida no recibirá nada de 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ejemplo: La decisión de Larr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egunda pretendiente se llama Jana, que es contadora en una compañía. Larry estima una probabilidad de 0.6 de que Jana siga su carrera y una probabilidad de 0.4 de que la deje y se dedique a los hijos. Si continúa con su trabajo, podría pasar a auditoría, donde hay una probabilidad de 0.5 de ganar $40.000 y de 0.5 de ganar $30.000, o bien podría pasar al departamento de impuestos donde ganaría $40.000 con probabilidad de 0.7 o $25.000 (0.3). Si se dedica a los hijos podría tener un trabajo de tiempo parcial por $2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robabilida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¿En qué consisten las probabilidad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dican incertidumbre acerca de un evento qu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currió en el pasa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curre en el pres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currirá en el futu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ejemplo: La decisión de Larr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tercer pretendiente es María, la cual sólo puede ofrecer a Larry su dote de $25.0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¿Con quién debe casarse Larry? ¿Por qué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¿Cuál es el riesgo involucrado en la secuencia óptima de decision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omado 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Gallagher. Watson. METODOS CUANTITATIVOS PARA LA TOMA DE DECISIONES EN ADMINISTRACIÓN. McGraw Hill, México, 198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Los Árboles de decisión y el ries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 análisis del riesgo ayuda al tomador de decisiones a identificar la diferencia entr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 valor esperado de una alternativa de decisión, 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 resultado que efectivamente podría ocurri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Los Árboles de decisión y el ries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l riesgo se refiere a la variación en los resultados posi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Mientras más varíen los resultados, entonces se dice que el riesgo es may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xisten diferentes maneras de cuantificar el riesgo, y una de ellas es la variancia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Los Árboles de decisión y el ries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La variancia se calcula com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MX" sz="3400" spc="-1" strike="noStrike">
                <a:solidFill>
                  <a:srgbClr val="000000"/>
                </a:solidFill>
                <a:latin typeface="Times New Roman"/>
              </a:rPr>
              <a:t>P(X</a:t>
            </a:r>
            <a:r>
              <a:rPr b="0" i="1" lang="es-MX" sz="3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es la probabilidad del evento </a:t>
            </a:r>
            <a:r>
              <a:rPr b="0" i="1" lang="es-MX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MX" sz="3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3400" spc="-1" strike="noStrike">
                <a:solidFill>
                  <a:srgbClr val="000000"/>
                </a:solidFill>
                <a:latin typeface="Times New Roman"/>
              </a:rPr>
              <a:t>E(X)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es el valor esperado de </a:t>
            </a:r>
            <a:r>
              <a:rPr b="0" i="1" lang="es-MX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71640" y="2293920"/>
                <a:ext cx="70200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os Árboles de decisión y el riesgo: ejemplo: el caso de Larry </a:t>
            </a:r>
            <a:r>
              <a:rPr b="1" lang="es-ES_tradnl" sz="2600" spc="-1" strike="noStrike">
                <a:solidFill>
                  <a:srgbClr val="006633"/>
                </a:solidFill>
                <a:latin typeface="Garamond"/>
              </a:rPr>
              <a:t>(datos en miles)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484280"/>
          <a:ext cx="8229600" cy="4633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(</a:t>
                      </a:r>
                      <a:r>
                        <a:rPr b="0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os Árboles de decisión y el riesgo: ejemplo: el caso de Larr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decisión por Jenny es la del valor esperado más alto, pero también es la más riesgosa, pues los resultados varían entre $0 y $100.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decisión por María es la menos riesgosa, pero la de menor rendimi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l vez la mejor decisión sea Jana, ya que el valor esperado es cercano al de Jenny pero con un riesgo men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Las decisiones multicriter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Hasta ahora se han analizado dos criterios para la toma de decis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valor monetario esperado, 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riesgo (varianci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Pero pueden haber otros factores importantes en las decis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¿Cuáles otros factores influirían en la decisión de Larr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Las decisiones multicriter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¿Cuáles otros factores influyen en las organizacion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ctores relacionados con la imagen, motivación del personal, valores, etc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s posible crear escalas numéricas para evaluar estos factores y luego factores para ponderar cada crite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 principal problema es la subjetividad en la evaluación de estos otros facto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eoría de la decisión: La ut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 criterio del valor monetario esperado es una guía útil en muchas ocas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bre todo si las cantidades involucradas no son muy grandes o si la decisión es repetiti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n Neumann y Morgenstern construyeron un marco de referencia consistente para la toma de decisiones bajo incertidumb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eoría de la decisión: La ut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ste otro enfoque de la teoría de la decisión es el de la Utilida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utilidad es el grado de satisfacción que se obtiene ante un cierto resulta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sde este enfoque las decisiones se toman para maximizar la utilidad esperada, en lugar del valor monetario espera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Enfoques de probab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850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Clásico o escuela objeti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850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Frecuencias relativ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850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ersonalista o subje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eoría de la decisión: La ut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 selecciona una alternativa en lugar de otra porque proporciona una mayor utilida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s necesario aplicar un procedimiento para cuantificar la función de utilidad que los bienes o el dinero tienen para una persona, de modo que pueda maximizar la utilidad tot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eoría de la decisión: La ut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ste enfoque plantea curvas de utilidad, cuya forma refleja la posición de los individuos ante el ries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ste enfoque es mejor, pero más complejo de llevar a la práctica, sobre todo por las dificultades prácticas para cuantificar la utilida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600" spc="-1" strike="noStrike">
                <a:solidFill>
                  <a:srgbClr val="006633"/>
                </a:solidFill>
                <a:latin typeface="Garamond"/>
              </a:rPr>
              <a:t>Si desea más información visite </a:t>
            </a:r>
            <a:r>
              <a:rPr b="0" lang="es-CR" sz="46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www.auladeeconomia.com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Le invitamos a leer nuestros artículos y matricular nuestros 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333360"/>
            <a:ext cx="333360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Fuentes de las probabilida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Historia del pasa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Juicio subje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Distribuciones teóric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Valor espera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s la media de la distribución de probabilida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 calcula com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195640" y="3648240"/>
                <a:ext cx="43210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Valor esperado: ejemp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onga que usted compra en ¢1000 un número de una rifa, la cual paga un premio de ¢50.000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ay dos eventos posible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ted gana la rifa, 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ier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¿Cuál es el valor esperado del juego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Valor esperado: ejemp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distribución de probabilidades e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 valor esperado e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9000*(1/100) + -1000*99/100 = -5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¿Qué significa ese resultado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7280" y="2133720"/>
          <a:ext cx="6769080" cy="2086920"/>
        </p:xfrm>
        <a:graphic>
          <a:graphicData uri="http://schemas.openxmlformats.org/drawingml/2006/table">
            <a:tbl>
              <a:tblPr/>
              <a:tblGrid>
                <a:gridCol w="2256480"/>
                <a:gridCol w="2256120"/>
                <a:gridCol w="22564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X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¢ 49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rd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/1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Árboles de decis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eden usarse para desarrollar una estrategia óptima cuando el tomador de decisiones se enfrenta co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a serie de alternativas de decis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8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ertidumbre o eventos futuros con ries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*Un buen análisis de decisiones incluye un análisis de ries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Árboles de decisión: Componentes y estructur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0000"/>
                </a:solidFill>
                <a:latin typeface="Arial"/>
              </a:rPr>
              <a:t>Alternativas de decisión</a:t>
            </a: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 en cada punto de decis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 que pueden ocurrir como resultado de cada alternativa de decisión. También son llamados </a:t>
            </a:r>
            <a:r>
              <a:rPr b="1" i="1" lang="es-ES_tradnl" sz="3400" spc="-1" strike="noStrike">
                <a:solidFill>
                  <a:srgbClr val="000000"/>
                </a:solidFill>
                <a:latin typeface="Arial"/>
              </a:rPr>
              <a:t>Estados de la naturalez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auladeeconomia.co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4:43:08Z</dcterms:created>
  <dc:creator>Gabriel Leandro</dc:creator>
  <dc:description/>
  <dc:language>en-US</dc:language>
  <cp:lastModifiedBy>Gabriel Leandro</cp:lastModifiedBy>
  <dcterms:modified xsi:type="dcterms:W3CDTF">2006-04-11T15:51:53Z</dcterms:modified>
  <cp:revision>33</cp:revision>
  <dc:subject/>
  <dc:title>Teoría de la decisión</dc:title>
</cp:coreProperties>
</file>