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83B-02AD-47DC-942B-EC862E2B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74A-2055-4B71-BE9B-749DC70D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13D-42FE-42A8-A75F-321EF140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C8D-8120-4E51-A946-37B35B00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A81-2DC3-4C80-ABF3-AD4B3D28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0BC-1C3B-4433-A629-572DFCB2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2AD-826F-4CD2-B9FB-FAB0FE48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5CC-70B1-4058-BB14-3DE37B88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DF3-B49A-428D-B73E-DB23F927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A88-3DBE-4F21-BA4C-56F632C0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010-ED98-4371-829F-DCA76E20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573-B0DC-42BE-9053-70811EEA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8B5B-0DB3-4C5C-B167-AA4A8F500F15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PRÁCTICO DE POWERPOINT 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oductos Orgánicos en 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GifAnim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1638360" cy="2006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911760" y="4851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484360" y="407664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227640" y="4653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048 -0.00717 L -4.72222E-006 -3.96855E-006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96855E-006 L 0.76077 -0.00717 E">
                                      <p:cBhvr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14:00:10Z</dcterms:created>
  <dc:creator/>
  <dc:description/>
  <dc:language>en-US</dc:language>
  <cp:lastModifiedBy>Pimpi2009</cp:lastModifiedBy>
  <dcterms:modified xsi:type="dcterms:W3CDTF">2011-01-31T02:47:49Z</dcterms:modified>
  <cp:revision>22</cp:revision>
  <dc:subject/>
  <dc:title>TRABAJO PRÁCTICO DE POWERPOINT N°2</dc:title>
</cp:coreProperties>
</file>