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7B4-B136-45B0-A677-FD27E8BF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723-CED3-4053-93E2-DE328651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270-1BF6-4606-8C8E-740DA7DD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5BB-58FD-424B-875D-CED94C18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EE81-720D-4C7D-8F53-6F9FB421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4686-76C8-407C-BB39-55AA8A1E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C89F-4C7D-4005-84AB-CDCB681F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AC4B-A59C-4D41-B022-D72B050A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BDA6-59B1-4668-95E9-B651CA47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22AA-4273-4428-873E-6EE58EE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93FA-FB56-493E-B9B3-781C69BB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53B-2741-4EB5-8D50-5F5A3F0D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751C-8F71-42E4-930E-9A1262E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29D7-EC3D-4183-A6C7-60DC0D79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F91-AB6F-43D7-A463-8E62DE2F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ADCD-79D4-4B16-AECA-83730DD2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5B11-5435-4FF9-A327-F4919848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EEB-058B-44D4-BBBA-2EC84650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EDA-371F-443B-875A-9627A7DB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4A8-F800-4321-9909-9F48A1E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C45-EF6F-4E13-9159-1A29AABD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B4D-524D-4D6B-B519-931AF5CC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CC8-5390-458B-AF0F-2C9F1291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300-FBB1-4C5D-A03E-B843C72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ECB3-6445-41E5-89CC-6CC44D87E3AD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CE4A-340C-4BDF-A466-AA23BBCE2214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glo </a:t>
            </a: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XX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íder en productos electrónic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671" descr="http://www.cbafederal.com.ar/gallery/productos/132/big/1250105590_mp4titan2gbus088.jpg"/>
          <p:cNvPicPr/>
          <p:nvPr/>
        </p:nvPicPr>
        <p:blipFill>
          <a:blip r:embed="rId1"/>
          <a:stretch/>
        </p:blipFill>
        <p:spPr>
          <a:xfrm>
            <a:off x="1116000" y="765000"/>
            <a:ext cx="1104840" cy="109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http://www.ahpinsumos.com.ar/BasePic/mp5%20titan094.jpg"/>
          <p:cNvPicPr/>
          <p:nvPr/>
        </p:nvPicPr>
        <p:blipFill>
          <a:blip r:embed="rId2"/>
          <a:stretch/>
        </p:blipFill>
        <p:spPr>
          <a:xfrm>
            <a:off x="3924360" y="5229360"/>
            <a:ext cx="1047600" cy="723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http://images02.olx.com.ar/ui/2/63/76/32775776_1.jpg"/>
          <p:cNvPicPr/>
          <p:nvPr/>
        </p:nvPicPr>
        <p:blipFill>
          <a:blip r:embed="rId3"/>
          <a:stretch/>
        </p:blipFill>
        <p:spPr>
          <a:xfrm>
            <a:off x="6659640" y="1052640"/>
            <a:ext cx="933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1995480" cy="2151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284720" y="213372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MPARAR PRECIOS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2390760" cy="99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859280" y="4437000"/>
            <a:ext cx="3162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2:59:41Z</dcterms:created>
  <dc:creator>Claudio</dc:creator>
  <dc:description/>
  <dc:language>en-US</dc:language>
  <cp:lastModifiedBy>Claudio</cp:lastModifiedBy>
  <dcterms:modified xsi:type="dcterms:W3CDTF">2010-08-16T04:53:25Z</dcterms:modified>
  <cp:revision>9</cp:revision>
  <dc:subject/>
  <dc:title>Siglo XXI</dc:title>
</cp:coreProperties>
</file>