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4.png" ContentType="image/png"/>
  <Override PartName="/ppt/media/image36.png" ContentType="image/png"/>
  <Override PartName="/ppt/media/image30.jpeg" ContentType="image/jpeg"/>
  <Override PartName="/ppt/media/image7.wmf" ContentType="image/x-wmf"/>
  <Override PartName="/ppt/media/image20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0.jpeg" ContentType="image/jpeg"/>
  <Override PartName="/ppt/media/image1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2B0-4ECB-4242-AB31-E26D3F02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758-3B82-4730-AE82-4507F93F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671-AB02-4172-85FC-C6F3E793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135-50E4-402C-B366-3757FBD0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2E2-7D29-4563-9242-6EC0EAE1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653-A099-4BD6-BF5D-D6D74927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BE1-8D89-4939-AF08-178182B0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935-7857-4FB9-BBEB-3D6899A8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076-B498-436D-AFCA-45A78341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C9B-32B2-481D-A4D2-AEFF03F8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C0A-5EFD-4650-AF54-D87C8A8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42E-11F3-4B25-BDB9-5169D5D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C3FB-4C67-43B7-9A28-AA61C0FE2E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TRANSPOR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 MERCADE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55640" y="6922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</a:t>
            </a: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ransporte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ARITIMO: </a:t>
            </a:r>
            <a:r>
              <a:rPr b="1" lang="es-MX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ORMAS DE CONTRA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00000" y="1916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n régimen de línea regular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realiza en buque perteneciente a uno o varios armadores por, rutas fijas, puertos fijos, frecuencia de tráfico predefinida y tarifas preestablec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n régimen de fletamento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realiza contratando el espacio de carga de un buque, total o parcialmente, para efectuar uno o varios viajes, o por un período de tiempo.Flete a negociación.Contrato de trasnporte fletante-fletador: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“póliza de fletam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43000" y="990720"/>
            <a:ext cx="7391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nocimiento de embarque marítimo (BL)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unciones bás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600200" y="1676520"/>
            <a:ext cx="65530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ueba titularidad de mercadería y contrato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actura de flete – Procedencia de la mercad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ítulo de crédito, por lo que su tenedor legítimo tiene derecho a retirar la mercancía transport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cuse de recibo de la mercancía y de su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19320" y="327672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mis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676520" y="3657600"/>
            <a:ext cx="655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la compañía naviera o su agente, firmado por capit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l plazo de 24 horas desde la carg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 mas frecuente es que sea en tres originales negociables, y un número variable de no negoc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19320" y="4876920"/>
            <a:ext cx="7391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ipo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su condición de titulo de crédito puede s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00200" y="5589720"/>
            <a:ext cx="650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minativo, destinatario-transfiere por cesión de derech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la orden, destinatario-transfiere por end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l portador,no especifíca consignatario-simple entr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90720" y="13716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ocumentos de Transporte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ARI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38080" y="2438280"/>
            <a:ext cx="77724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ocimiento de embarque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BL)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unca viaja con la mercader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asificación: limpio/su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mas de transmisión: simple entrega – endoso – endoso ante escriban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n régimen de fletamento: Póliza de fletamento,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gula el contrato de transporte. Entre partes prevale sobre 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187280" y="98100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</a:rPr>
              <a:t>Conten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ontenedor de 20 tanque"/>
          <p:cNvPicPr/>
          <p:nvPr/>
        </p:nvPicPr>
        <p:blipFill>
          <a:blip r:embed="rId1"/>
          <a:stretch/>
        </p:blipFill>
        <p:spPr>
          <a:xfrm>
            <a:off x="95400" y="4241880"/>
            <a:ext cx="1428480" cy="117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8" name="Picture 7" descr="contenedor de 40 flat"/>
          <p:cNvPicPr/>
          <p:nvPr/>
        </p:nvPicPr>
        <p:blipFill>
          <a:blip r:embed="rId2"/>
          <a:stretch/>
        </p:blipFill>
        <p:spPr>
          <a:xfrm>
            <a:off x="914400" y="5261040"/>
            <a:ext cx="2381400" cy="1552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9" name="Picture 8" descr="contenedor de 40 normal"/>
          <p:cNvPicPr/>
          <p:nvPr/>
        </p:nvPicPr>
        <p:blipFill>
          <a:blip r:embed="rId3"/>
          <a:stretch/>
        </p:blipFill>
        <p:spPr>
          <a:xfrm>
            <a:off x="3638520" y="2130480"/>
            <a:ext cx="2381400" cy="1514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0" name="Picture 9" descr="contenedor de 40 open top"/>
          <p:cNvPicPr/>
          <p:nvPr/>
        </p:nvPicPr>
        <p:blipFill>
          <a:blip r:embed="rId4"/>
          <a:stretch/>
        </p:blipFill>
        <p:spPr>
          <a:xfrm>
            <a:off x="57240" y="1805040"/>
            <a:ext cx="2381040" cy="1552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1" name="Picture 10" descr="contenedor de 40 plataforma"/>
          <p:cNvPicPr/>
          <p:nvPr/>
        </p:nvPicPr>
        <p:blipFill>
          <a:blip r:embed="rId5"/>
          <a:stretch/>
        </p:blipFill>
        <p:spPr>
          <a:xfrm>
            <a:off x="4648320" y="4956120"/>
            <a:ext cx="2381040" cy="1552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2" name="Picture 11" descr="contenedor de 40 refrigerado"/>
          <p:cNvPicPr/>
          <p:nvPr/>
        </p:nvPicPr>
        <p:blipFill>
          <a:blip r:embed="rId6"/>
          <a:stretch/>
        </p:blipFill>
        <p:spPr>
          <a:xfrm>
            <a:off x="5286240" y="3532320"/>
            <a:ext cx="2381400" cy="1552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3" name="Picture 12" descr="contenedor de 40 termico"/>
          <p:cNvPicPr/>
          <p:nvPr/>
        </p:nvPicPr>
        <p:blipFill>
          <a:blip r:embed="rId7"/>
          <a:stretch/>
        </p:blipFill>
        <p:spPr>
          <a:xfrm>
            <a:off x="6705720" y="1660680"/>
            <a:ext cx="2381040" cy="1552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4" name="Picture 13" descr="contenedor de 20 termico"/>
          <p:cNvPicPr/>
          <p:nvPr/>
        </p:nvPicPr>
        <p:blipFill>
          <a:blip r:embed="rId8"/>
          <a:stretch/>
        </p:blipFill>
        <p:spPr>
          <a:xfrm>
            <a:off x="7696080" y="2905200"/>
            <a:ext cx="1428840" cy="117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5" name="Picture 14" descr="contenedor de 20 refrigerado"/>
          <p:cNvPicPr/>
          <p:nvPr/>
        </p:nvPicPr>
        <p:blipFill>
          <a:blip r:embed="rId9"/>
          <a:stretch/>
        </p:blipFill>
        <p:spPr>
          <a:xfrm>
            <a:off x="7105680" y="4622760"/>
            <a:ext cx="1428840" cy="117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6" name="Picture 15" descr="contenedor de 20 plataforma"/>
          <p:cNvPicPr/>
          <p:nvPr/>
        </p:nvPicPr>
        <p:blipFill>
          <a:blip r:embed="rId10"/>
          <a:stretch/>
        </p:blipFill>
        <p:spPr>
          <a:xfrm>
            <a:off x="3886200" y="4346640"/>
            <a:ext cx="1428840" cy="117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7" name="Picture 16" descr="contenedor de 20 flat"/>
          <p:cNvPicPr/>
          <p:nvPr/>
        </p:nvPicPr>
        <p:blipFill>
          <a:blip r:embed="rId11"/>
          <a:stretch/>
        </p:blipFill>
        <p:spPr>
          <a:xfrm>
            <a:off x="1752480" y="4498920"/>
            <a:ext cx="1428840" cy="117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8" name="Picture 17" descr="contenedor de 20 hardtop"/>
          <p:cNvPicPr/>
          <p:nvPr/>
        </p:nvPicPr>
        <p:blipFill>
          <a:blip r:embed="rId12"/>
          <a:stretch/>
        </p:blipFill>
        <p:spPr>
          <a:xfrm>
            <a:off x="1774800" y="2689200"/>
            <a:ext cx="1428840" cy="117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9" name="Picture 18" descr="contenedor de 20 normal"/>
          <p:cNvPicPr/>
          <p:nvPr/>
        </p:nvPicPr>
        <p:blipFill>
          <a:blip r:embed="rId13"/>
          <a:stretch/>
        </p:blipFill>
        <p:spPr>
          <a:xfrm>
            <a:off x="3214800" y="3481560"/>
            <a:ext cx="1428480" cy="117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0" name="Picture 19" descr="contenedor de 20 bulk"/>
          <p:cNvPicPr/>
          <p:nvPr/>
        </p:nvPicPr>
        <p:blipFill>
          <a:blip r:embed="rId14"/>
          <a:stretch/>
        </p:blipFill>
        <p:spPr>
          <a:xfrm>
            <a:off x="228600" y="3121200"/>
            <a:ext cx="1428840" cy="117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1905120"/>
            <a:ext cx="77724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nos Rob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jor Llegada de la Mercadería con Menor Manipu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nos Mano de Obra en el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nores Costos de Manipuleo y Almacenaje en Pu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nor costo de Env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mplificación del Tramite Aduanero en Transbordos o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mbin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nor Estadía de Buques en Pu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ayor Rapidez de Viaje por Menos Tiempos en Pu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16000" y="981000"/>
            <a:ext cx="892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MX" sz="2400" spc="-1" strike="noStrike">
                <a:solidFill>
                  <a:srgbClr val="990000"/>
                </a:solidFill>
                <a:latin typeface="Arial"/>
              </a:rPr>
              <a:t>Beneficios del Transporte por Conten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33cccc">
              <a:alpha val="12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ransporte fluv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3628800"/>
          </a:xfrm>
          <a:prstGeom prst="rect">
            <a:avLst/>
          </a:prstGeom>
          <a:solidFill>
            <a:srgbClr val="993366">
              <a:alpha val="10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considera complementario al transporte marít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basa en dos aspectos fundamenta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istencia de zonas industriales, agrícolas y yacimientos de materias primas a lo largo de muchos ríos del m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istencia de puertos en la desembocad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isten importantes zonas económicas servidas por este tipo de transpor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in-Danu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ississip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randes ríos de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 de transporte Fluvial…Puerto Autónomo de Li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 puerto fluvial de Europa que enlaza con Amberes y Rotterd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2 km de muelle de atraque y más de 260 hectáreas de terrenos port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10348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barcaza"/>
          <p:cNvPicPr/>
          <p:nvPr/>
        </p:nvPicPr>
        <p:blipFill>
          <a:blip r:embed="rId1"/>
          <a:stretch/>
        </p:blipFill>
        <p:spPr>
          <a:xfrm>
            <a:off x="3059280" y="4869000"/>
            <a:ext cx="2857320" cy="183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ACTERÍSTICAS DE LOS MODOS DE         TRANSPORT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RR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125360"/>
          <a:ext cx="8604360" cy="5402520"/>
        </p:xfrm>
        <a:graphic>
          <a:graphicData uri="http://schemas.openxmlformats.org/drawingml/2006/table">
            <a:tbl>
              <a:tblPr/>
              <a:tblGrid>
                <a:gridCol w="1440000"/>
                <a:gridCol w="3672000"/>
                <a:gridCol w="3492360"/>
              </a:tblGrid>
              <a:tr h="702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05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et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dad (facilidad cambio ru-ta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ibilidad (servicio puerta a puer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atilidad (unidades de trans-porte de tamaños divers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seguridad (versus tr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complejidad de embalaje (versus maríti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ción bimodal (Remol-que de camión- vagón, Tiempo de Tránsito: hasta 500 Kms máximo 2-3 dí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capacidad por unidad de transporte (40 Tm máximo permitido) versus marítimo y ferrovia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ción de distancias a recorrer (versus todos los demá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es de tráfico en accesos a ciudades / termi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09480" y="2819520"/>
            <a:ext cx="8001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RT (Documento de trasnporte: Carta de Po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IC/DT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Manifiesto Int. de Carga por Carrete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OJA de RU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112536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ocumentos  de Transporte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do Carret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798560"/>
          <a:ext cx="8077320" cy="4105440"/>
        </p:xfrm>
        <a:graphic>
          <a:graphicData uri="http://schemas.openxmlformats.org/drawingml/2006/table">
            <a:tbl>
              <a:tblPr/>
              <a:tblGrid>
                <a:gridCol w="2362320"/>
                <a:gridCol w="5715000"/>
              </a:tblGrid>
              <a:tr h="18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ato 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or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 Por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la Orden o Consign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min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/D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cumento Adua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ía 1 aduana de part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ía 2 aduana de sal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ía 3 aduana de entrada del país del im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ía 4 aduana de destino del país del im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ía 5 Transport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6"/>
          <p:cNvSpPr/>
          <p:nvPr/>
        </p:nvSpPr>
        <p:spPr>
          <a:xfrm>
            <a:off x="250920" y="9810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ocumentos de Transporte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90720" y="13716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ocumentos de Transporte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38080" y="2438280"/>
            <a:ext cx="7772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arta de Porte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(C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unciones básica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ueba del contrato de transporte terr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ueba de recibo de la mercader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actura de f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838080" y="328464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581280" y="3284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GOCI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324480" y="3276720"/>
            <a:ext cx="252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MPAQUE Y EMBAL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85800" y="61848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RANSPORT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UPERFI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203640" y="61578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U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XPORT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486400" y="6248520"/>
            <a:ext cx="33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EDIOS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3352680" y="1143000"/>
            <a:ext cx="2667240" cy="20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rcRect l="0" t="0" r="21248" b="13729"/>
          <a:stretch/>
        </p:blipFill>
        <p:spPr>
          <a:xfrm>
            <a:off x="6095880" y="1143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3"/>
          <a:srcRect l="16252" t="0" r="0" b="11295"/>
          <a:stretch/>
        </p:blipFill>
        <p:spPr>
          <a:xfrm>
            <a:off x="395280" y="4005360"/>
            <a:ext cx="2805120" cy="216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4"/>
          <a:stretch/>
        </p:blipFill>
        <p:spPr>
          <a:xfrm>
            <a:off x="5940360" y="3962520"/>
            <a:ext cx="289872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5"/>
          <a:srcRect l="0" t="9528" r="0" b="0"/>
          <a:stretch/>
        </p:blipFill>
        <p:spPr>
          <a:xfrm>
            <a:off x="3276720" y="4005360"/>
            <a:ext cx="2519280" cy="216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6"/>
          <a:srcRect l="0" t="10004" r="0" b="6617"/>
          <a:stretch/>
        </p:blipFill>
        <p:spPr>
          <a:xfrm>
            <a:off x="395280" y="1197000"/>
            <a:ext cx="288144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990720" y="13716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ocumentos de Transporte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838080" y="2438280"/>
            <a:ext cx="777240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arta de Porte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CRT)  - Característic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 emite el ATA   /     Viaja siempre con la mercader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ede actuar como título de crédito (aval bancari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actura de f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C/DTA Manifiesto Internacional de carga-Documento de transporte aduanero. Para aduanas de fro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ransporte ferrovi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837160"/>
          </a:xfrm>
          <a:prstGeom prst="rect">
            <a:avLst/>
          </a:prstGeom>
          <a:solidFill>
            <a:srgbClr val="ffff00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ncipales ventaj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ran capacidad de carga, pudiendo competir con el maríti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uen grado de penetración en el terri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lexibilidad,  pudiendo transportar desde pequeños paquetes hasta grandes contai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orte adecuado para enormes lotes de carga (por ejemplo coch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ncipales desventaj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querimiento de un mejor empaque debiendo permitir manipulaciones extrem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lmente falta de mecanismos de competencia y excesiva dependencia de su gestión del sector públ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38420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can_d"/>
          <p:cNvPicPr/>
          <p:nvPr/>
        </p:nvPicPr>
        <p:blipFill>
          <a:blip r:embed="rId1"/>
          <a:stretch/>
        </p:blipFill>
        <p:spPr>
          <a:xfrm>
            <a:off x="684360" y="4292640"/>
            <a:ext cx="3768480" cy="235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1" name="Text Box 6"/>
          <p:cNvSpPr/>
          <p:nvPr/>
        </p:nvSpPr>
        <p:spPr>
          <a:xfrm>
            <a:off x="620856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AVE%20A%20DANGEAU"/>
          <p:cNvPicPr/>
          <p:nvPr/>
        </p:nvPicPr>
        <p:blipFill>
          <a:blip r:embed="rId2"/>
          <a:stretch/>
        </p:blipFill>
        <p:spPr>
          <a:xfrm>
            <a:off x="4932360" y="4292640"/>
            <a:ext cx="3456000" cy="2338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2320"/>
          </a:xfrm>
          <a:prstGeom prst="rect">
            <a:avLst/>
          </a:prstGeom>
          <a:solidFill>
            <a:srgbClr val="0000ff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ransporte aé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519280"/>
          </a:xfrm>
          <a:prstGeom prst="rect">
            <a:avLst/>
          </a:prstGeom>
          <a:solidFill>
            <a:srgbClr val="ffcc99">
              <a:alpha val="42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ciente desarrollo en los últimos años, con una simplificación considerable de la documentación para exportaciones vía transporte aéreo, unificando tarifas y condi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cuado para mercancías de envío urgente, alto valor y perecederas. Importante en sectores como el de la m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inconvenientes: Limitaciones técnicas sobre el peso máximo de despegue, resistencia de las bodegas, tamaño de las puertas, autonomía de v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968480" y="4719600"/>
            <a:ext cx="52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103480" y="50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Beluga"/>
          <p:cNvPicPr/>
          <p:nvPr/>
        </p:nvPicPr>
        <p:blipFill>
          <a:blip r:embed="rId1"/>
          <a:stretch/>
        </p:blipFill>
        <p:spPr>
          <a:xfrm>
            <a:off x="684360" y="4076640"/>
            <a:ext cx="3809880" cy="23814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58" name="Text Box 7"/>
          <p:cNvSpPr/>
          <p:nvPr/>
        </p:nvSpPr>
        <p:spPr>
          <a:xfrm>
            <a:off x="5416560" y="488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beluganight"/>
          <p:cNvPicPr/>
          <p:nvPr/>
        </p:nvPicPr>
        <p:blipFill>
          <a:blip r:embed="rId2"/>
          <a:stretch/>
        </p:blipFill>
        <p:spPr>
          <a:xfrm>
            <a:off x="4643280" y="4076640"/>
            <a:ext cx="3810240" cy="23814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ontainer_02"/>
          <p:cNvPicPr/>
          <p:nvPr/>
        </p:nvPicPr>
        <p:blipFill>
          <a:blip r:embed="rId1"/>
          <a:stretch/>
        </p:blipFill>
        <p:spPr>
          <a:xfrm>
            <a:off x="457200" y="2046240"/>
            <a:ext cx="2743200" cy="2030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ontainer_10"/>
          <p:cNvPicPr/>
          <p:nvPr/>
        </p:nvPicPr>
        <p:blipFill>
          <a:blip r:embed="rId2"/>
          <a:stretch/>
        </p:blipFill>
        <p:spPr>
          <a:xfrm>
            <a:off x="5867280" y="4145040"/>
            <a:ext cx="2971800" cy="2289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container_03"/>
          <p:cNvPicPr/>
          <p:nvPr/>
        </p:nvPicPr>
        <p:blipFill>
          <a:blip r:embed="rId3"/>
          <a:stretch/>
        </p:blipFill>
        <p:spPr>
          <a:xfrm>
            <a:off x="6400800" y="1674720"/>
            <a:ext cx="2743200" cy="225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container_06"/>
          <p:cNvPicPr/>
          <p:nvPr/>
        </p:nvPicPr>
        <p:blipFill>
          <a:blip r:embed="rId4"/>
          <a:stretch/>
        </p:blipFill>
        <p:spPr>
          <a:xfrm>
            <a:off x="3048120" y="4525920"/>
            <a:ext cx="2895480" cy="214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ontainer_05"/>
          <p:cNvPicPr/>
          <p:nvPr/>
        </p:nvPicPr>
        <p:blipFill>
          <a:blip r:embed="rId5"/>
          <a:stretch/>
        </p:blipFill>
        <p:spPr>
          <a:xfrm>
            <a:off x="3200400" y="1795320"/>
            <a:ext cx="3276720" cy="2425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container_08"/>
          <p:cNvPicPr/>
          <p:nvPr/>
        </p:nvPicPr>
        <p:blipFill>
          <a:blip r:embed="rId6"/>
          <a:stretch/>
        </p:blipFill>
        <p:spPr>
          <a:xfrm>
            <a:off x="533520" y="4373640"/>
            <a:ext cx="2666880" cy="1974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108000" y="10494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</a:rPr>
              <a:t>Air Cargo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39640" y="2708280"/>
            <a:ext cx="829944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imales V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ercade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Perece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ercade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Volumin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os Qu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cos y Farma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t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os Elect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icos, de Computaci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 y Tele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os de Alto Valor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os Delicados que deben ser transportados con sumo cui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68360" y="134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Mercader</a:t>
            </a:r>
            <a:r>
              <a:rPr b="1" lang="es-MX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í</a:t>
            </a:r>
            <a:r>
              <a:rPr b="1" lang="es-MX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a Especialmente apta para el Transporte A</a:t>
            </a:r>
            <a:r>
              <a:rPr b="1" lang="es-MX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é</a:t>
            </a:r>
            <a:r>
              <a:rPr b="1" lang="es-MX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990720" y="13716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ocumentos de Transporte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DO AE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2438280"/>
            <a:ext cx="7772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uía aére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- (no negociable)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unciones básica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ueba del contrato de transporte aé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ueba de recibo de la mercader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actura de f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óliza de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cedencia de la mercadería/Declaración de ad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6553080"/>
            <a:ext cx="2879640" cy="30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OREIGN AFFAIR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nsult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11280" y="3357720"/>
            <a:ext cx="7993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90720" y="13716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ocumentos de Transporte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DO AE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38080" y="2438280"/>
            <a:ext cx="77724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uía aére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- Característic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lo la emite agente 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emite una guía madre y varias hi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 es  negociable / No es documento garant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iaja siempre con la mercadería / No representa un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be0e3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ransporte por tuber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1684440"/>
          </a:xfrm>
          <a:prstGeom prst="rect">
            <a:avLst/>
          </a:prstGeom>
          <a:solidFill>
            <a:srgbClr val="cc99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productos, especialmente derivados del petróleo y gas na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ento, fiable, flujo continuo de sustancias de alta viscos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y distintas normativas gubernamentales con lo que su implantación es compl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7984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oleoducto"/>
          <p:cNvPicPr/>
          <p:nvPr/>
        </p:nvPicPr>
        <p:blipFill>
          <a:blip r:embed="rId1"/>
          <a:stretch/>
        </p:blipFill>
        <p:spPr>
          <a:xfrm>
            <a:off x="1403280" y="3213000"/>
            <a:ext cx="2324160" cy="309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5" name="Text Box 6"/>
          <p:cNvSpPr/>
          <p:nvPr/>
        </p:nvSpPr>
        <p:spPr>
          <a:xfrm>
            <a:off x="375912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gas1"/>
          <p:cNvPicPr/>
          <p:nvPr/>
        </p:nvPicPr>
        <p:blipFill>
          <a:blip r:embed="rId2"/>
          <a:stretch/>
        </p:blipFill>
        <p:spPr>
          <a:xfrm>
            <a:off x="4643280" y="3208320"/>
            <a:ext cx="3311640" cy="31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bbe0e3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porte multimo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197160"/>
          </a:xfrm>
          <a:prstGeom prst="rect">
            <a:avLst/>
          </a:prstGeom>
          <a:solidFill>
            <a:srgbClr val="333399">
              <a:alpha val="12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porte de unidades de carga por diferentes medios de transporte bajo un solo documento y formalizando un solo contrato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ra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formaliza con un solo operador de transporte que asume la responsabilidad tanto de la coordinación de toda la cadena como de los sinies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bjetiv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mento de la eficiencia del transporte: reducción de tiempos, manipulaciones, robos, daños y descongestión de las vías terres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tor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Destaca 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perador de Transporte Multimoda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se responsabiliza del trans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raestructuras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rminales de carga,Plataformas Multimodales, Puertos Se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cidencia decisiva en 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lanificación estratég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stes y diferenc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3984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09548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03184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816200" y="568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pinillos"/>
          <p:cNvPicPr/>
          <p:nvPr/>
        </p:nvPicPr>
        <p:blipFill>
          <a:blip r:embed="rId1"/>
          <a:stretch/>
        </p:blipFill>
        <p:spPr>
          <a:xfrm>
            <a:off x="682560" y="4653000"/>
            <a:ext cx="3889440" cy="19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4" name="Text Box 9"/>
          <p:cNvSpPr/>
          <p:nvPr/>
        </p:nvSpPr>
        <p:spPr>
          <a:xfrm>
            <a:off x="5416560" y="517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+Nouveau notre camion"/>
          <p:cNvPicPr/>
          <p:nvPr/>
        </p:nvPicPr>
        <p:blipFill>
          <a:blip r:embed="rId2"/>
          <a:stretch/>
        </p:blipFill>
        <p:spPr>
          <a:xfrm>
            <a:off x="4859280" y="4638600"/>
            <a:ext cx="3313080" cy="196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ACTERÍSTICAS DE LOS MODOS DE TRANSPORT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39640" y="1125360"/>
          <a:ext cx="8604360" cy="5402520"/>
        </p:xfrm>
        <a:graphic>
          <a:graphicData uri="http://schemas.openxmlformats.org/drawingml/2006/table">
            <a:tbl>
              <a:tblPr/>
              <a:tblGrid>
                <a:gridCol w="1440000"/>
                <a:gridCol w="3313080"/>
                <a:gridCol w="3851280"/>
              </a:tblGrid>
              <a:tr h="702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05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modal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eficiencia (índice de  ocupación, y concentración de nodo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 sustancial  de tiempos (operaciones) y costos (seguro, salario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ción y eficiencia de controles (aduaneros, sanitario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seguri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tos para cierto tipo de cargas (graneles y cargas especiale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balance de circulación (retornos vacío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ere mayores inversiones en equipo y manipule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86728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44600" y="3048120"/>
            <a:ext cx="17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U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MPORT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019320" y="3027240"/>
            <a:ext cx="1899000" cy="58140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RANSPORT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UPERFI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86600" y="3048120"/>
            <a:ext cx="227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RRIBO A BODE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E DISTRIBU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948240" y="6075360"/>
            <a:ext cx="100440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815920" y="6075360"/>
            <a:ext cx="2462760" cy="33804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STRIBUCION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5677200" y="5999040"/>
            <a:ext cx="3145680" cy="58140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ATISFACCION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 UT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2"/>
          <a:srcRect l="25849" t="0" r="0" b="11295"/>
          <a:stretch/>
        </p:blipFill>
        <p:spPr>
          <a:xfrm>
            <a:off x="2771640" y="1066680"/>
            <a:ext cx="2791080" cy="19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3"/>
          <a:srcRect l="12502" t="0" r="8540" b="12266"/>
          <a:stretch/>
        </p:blipFill>
        <p:spPr>
          <a:xfrm>
            <a:off x="5791320" y="1066680"/>
            <a:ext cx="289548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4"/>
          <a:srcRect l="0" t="6669" r="0" b="6669"/>
          <a:stretch/>
        </p:blipFill>
        <p:spPr>
          <a:xfrm>
            <a:off x="380880" y="37339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5"/>
          <a:srcRect l="7500" t="21425" r="7500" b="0"/>
          <a:stretch/>
        </p:blipFill>
        <p:spPr>
          <a:xfrm>
            <a:off x="2819520" y="3733920"/>
            <a:ext cx="28191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6"/>
          <a:srcRect l="0" t="6474" r="0" b="9474"/>
          <a:stretch/>
        </p:blipFill>
        <p:spPr>
          <a:xfrm>
            <a:off x="380880" y="1066680"/>
            <a:ext cx="2246400" cy="19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38080" y="914400"/>
            <a:ext cx="7620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RANSPORTE INTERNACIONAL DE MERCANC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14400" y="1523880"/>
            <a:ext cx="739152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EFINI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ransporte significa el traslado de algo, personas o cosas, que gracias a este servicio obtiene un valor añadido, bien sea de carácter personal (viajes de turismo), bien de naturaleza económica (viajes de negocios, transporte de mercancí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l comercio internacional, el transporte tiene como función la de trasladar una mercancía desde un punto A en un país, a un punto B en otro país de destino, de forma que llegue a su destino en la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ciones de contrat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que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legar dentro del plazo acordado, usando los vehículos adecu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gar sin deterioro, con protección física idó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ransporte implica riesgos de dos tip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iesgos fís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iesgos económ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daños a la mercancía llevan al cargador y al transportista a la necesidad de protegerse: protección jurídica y econó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19320" y="838080"/>
            <a:ext cx="70102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LAS PERSONAS DEL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s importante conocer las funciones de las personas físicas y jurídicas que intervienen en los distintos tipos de transporte internacion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sporte maríti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133720" y="2362320"/>
            <a:ext cx="525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rmador,disponibilidad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pitán, con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rgador: responsable del embarque mer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gnatario, recibe la mercad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stibador, organ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letador, contrata el transporte del buque/u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295280" y="396252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sporte terrestre por carret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09680" y="4343400"/>
            <a:ext cx="594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perador o agente de Trans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istribuidor  de carg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371600" y="502920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sporte terrestre por ferrocarr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86000" y="548640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perador ferrov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19320" y="91440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sporte aér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905120" y="1219320"/>
            <a:ext cx="594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gente de carga aérea (agente IAT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añías de manipulación aeroportu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76360" y="2637000"/>
            <a:ext cx="73152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LA GESTION DEL TRANS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gestión del transporte debe realizarse en dos f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ase estática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de preparación): Deben abordarse los aspectos de protección física y los de protección jurídico –económica (seg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ase dinámica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de ejecución):Implica el estudio del movimiento de la mercancía en los vehículos, analizando los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técnico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características, exigencias, limitaciones de los vehículos y adecuación a la mercancía),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comerciale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contratación libre, regular y grupaje) y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jurídicos y documentale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incluye aspectos de responsabilidad y documentac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43000" y="990720"/>
            <a:ext cx="7620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CONTRATO DE TRANSPORTE Y SUS DOCU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1676520"/>
            <a:ext cx="769608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contrato de transporte de mercancías es aquel en que una persona que dispone de ellas legalmente encarga a otra, también legalmente habilitada para ello, de su traslado, mediante una compensación económica que es el precio. Las personas que intervienen pueden ser tanto físicas como juríd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elementos que configuran un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ato de transport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pueden clasificarse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133720" y="3962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981080" y="3962520"/>
            <a:ext cx="449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rgador, remitente o expedi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teador o transportis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stinatario, consignatario o recep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447920" y="49528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209680" y="5410080"/>
            <a:ext cx="44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ercanc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cio o f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43000" y="1143000"/>
            <a:ext cx="76201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orm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contrato de transporte normalmente se refleja en un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 escrit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que según el modo de transporte internacional puede s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arítimo: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ocimiento de embarqu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Bill of lading). Regulado por el Convenio de Bruselas de 1924 y modificado por las Reglas de Hambu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errestre por carretera: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rta de Port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C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errestre por ferrocarril: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rta de Port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éreo: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uía aérea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Airway Bill – AWB)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 todos los documentos de transporte existen unos datos comunes: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xpedidor, destinatario, fecha y lugar de carga, bultos, números, marcas, descripción de la mercancía, peso y cubicación, etc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2320"/>
          </a:xfrm>
          <a:prstGeom prst="rect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RANSPORTE MARÍT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052800"/>
          </a:xfrm>
          <a:prstGeom prst="rect">
            <a:avLst/>
          </a:prstGeom>
          <a:solidFill>
            <a:srgbClr val="eaeaea">
              <a:alpha val="51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orte fundamentalmente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ran capacidad de ca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deal para cargas pesadas y no perecederas, pero con costes fijos elev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lexible por la disponibilidad de buques de distinto tipos de ca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cios de fletes establecidos en un ámbito de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rmas habituales de contratación: Fletamento o línea regula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ncipal desventaja: Dependencia de factores muchas veces incontrolables para las empre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ierre del Canal de Suez (1967-1975) a consecuencia de la guerra de los seis dí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989 Accidente en Alaska del petrolero Exxon Valde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9220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17"/>
          <p:cNvPicPr/>
          <p:nvPr/>
        </p:nvPicPr>
        <p:blipFill>
          <a:blip r:embed="rId1"/>
          <a:stretch/>
        </p:blipFill>
        <p:spPr>
          <a:xfrm>
            <a:off x="5003640" y="4508640"/>
            <a:ext cx="3384720" cy="209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8" name="Text Box 6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Arm_Frigor_junho2000"/>
          <p:cNvPicPr/>
          <p:nvPr/>
        </p:nvPicPr>
        <p:blipFill>
          <a:blip r:embed="rId2"/>
          <a:stretch/>
        </p:blipFill>
        <p:spPr>
          <a:xfrm>
            <a:off x="900000" y="4508640"/>
            <a:ext cx="3240360" cy="2116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ge Mansour</cp:lastModifiedBy>
  <dcterms:modified xsi:type="dcterms:W3CDTF">2016-06-15T12:46:45Z</dcterms:modified>
  <cp:revision>429</cp:revision>
  <dc:subject/>
  <dc:title>Presentación de PowerPoint</dc:title>
</cp:coreProperties>
</file>