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97D-843F-460B-BC67-47619F4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E91-2D0C-4431-80E3-64E1291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5A7-1F5D-48C0-BC10-909389D4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767-D1FC-4B6D-8763-FBA016DE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9D6-EE0D-4362-9F74-1032FC0D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876-E968-4FCD-874B-FA246F44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263-A844-4054-AF02-28BF0B6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BA1-0F00-42DA-8268-152435A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7DE-178D-4268-A39B-E5BAEA0C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79B-4ABC-47A7-AE3D-629FDDC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5AA-D5AF-4E43-B02A-B6AA0B1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B7B-2BCE-4DCC-B2BA-BC42037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7EBE-4E58-40D4-A643-B4D60A9646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36360" y="-717840"/>
            <a:ext cx="3806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71280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amento de Ciencias Econó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tedra:  Economía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39120" cy="109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BIENES ECONO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Los bienes económicos pueden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De consu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De capita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Ambos pueden s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Sustitu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Compleme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Independientes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43280" y="6040440"/>
            <a:ext cx="6300720" cy="81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NTERROGANTES DE LA ECONO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13372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Que bienes y servicios produci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¿cómo  se van a produci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¿ Para quien  se van a produci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11280" y="5734080"/>
            <a:ext cx="6732720" cy="874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SISTEMAS ECONO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60680" y="5886360"/>
            <a:ext cx="7483320" cy="9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16000" y="2421000"/>
            <a:ext cx="74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Sistema de economí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Sistema de economía planif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Times New Roman"/>
              </a:rPr>
              <a:t>Sistema de economía de mercado mix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1035360"/>
            <a:ext cx="10298160" cy="29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FLUJO CIRCULAR DE RECURSOS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  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522936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CAD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/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2708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CAD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3789360"/>
            <a:ext cx="934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3860640"/>
            <a:ext cx="934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U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6858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6858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685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79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236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3068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076360" y="30686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80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4072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072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724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47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58053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58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80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72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6165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7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616572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58920" y="2708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58920" y="27079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172360" y="2707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708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3080" y="621648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GR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20500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602136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7280" y="6186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57320" y="61866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76360" y="5805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805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068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148360" y="30686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27840" y="5578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15120" y="551664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45480" y="539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0" y="539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45120" y="323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01120" y="3090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83120" y="2205000"/>
            <a:ext cx="99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6308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2276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3080" y="227664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IN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15120" y="2133720"/>
            <a:ext cx="34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14760" y="2338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038480" cy="523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58920" y="49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70828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076360" y="6165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2708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850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5892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72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72360" y="4797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14760" y="2266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59480" y="63705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TEORÍA DEL CONSU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85688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nfoque cardinal: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Función de utilidad total y función de utilidad margi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nfoque ordinal: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Curvas de indiferencias y recta de presupu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Optimo del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340000" y="5751360"/>
            <a:ext cx="6624720" cy="862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NFOQUE  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349360"/>
            <a:ext cx="0" cy="316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5800" y="5516640"/>
            <a:ext cx="4967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365720"/>
            <a:ext cx="1143000" cy="1730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2997360"/>
            <a:ext cx="0" cy="254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69000" y="456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555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133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6386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768760"/>
            <a:ext cx="3657600" cy="2717640"/>
          </a:xfrm>
          <a:custGeom>
            <a:avLst/>
            <a:gdLst/>
            <a:ahLst/>
            <a:rect l="l" t="t" r="r" b="b"/>
            <a:pathLst>
              <a:path w="2256" h="1712">
                <a:moveTo>
                  <a:pt x="0" y="1712"/>
                </a:moveTo>
                <a:cubicBezTo>
                  <a:pt x="436" y="936"/>
                  <a:pt x="872" y="160"/>
                  <a:pt x="1248" y="80"/>
                </a:cubicBezTo>
                <a:cubicBezTo>
                  <a:pt x="1624" y="0"/>
                  <a:pt x="2088" y="1040"/>
                  <a:pt x="2256" y="1232"/>
                </a:cubicBezTo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2819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tilidad total má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nto de sat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05520" y="6334200"/>
            <a:ext cx="40384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URVAS DE INDI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Son las curvas que representan una combinación indistinta entre dos bienes  y que brindan el mismo nivel de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Características de las curvas de indifer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* Tienen pendiente neg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* Son asintóticas  a los ej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* Nunca se cor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1052640"/>
            <a:ext cx="604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124000" y="5838840"/>
            <a:ext cx="6558120" cy="851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CTA DE PRESUPUE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2492280"/>
            <a:ext cx="82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Representa  el ingreso del  consumidor en un momento determinado, considerando los precios de los bienes y las cantidades de l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476360" y="573408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NFOQUE O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257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5257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2666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2666880"/>
            <a:ext cx="1905120" cy="144792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20" y="284"/>
                  <a:pt x="40" y="568"/>
                  <a:pt x="240" y="720"/>
                </a:cubicBezTo>
                <a:cubicBezTo>
                  <a:pt x="440" y="872"/>
                  <a:pt x="1040" y="880"/>
                  <a:pt x="1200" y="912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429000"/>
            <a:ext cx="1905120" cy="144792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20" y="284"/>
                  <a:pt x="40" y="568"/>
                  <a:pt x="240" y="720"/>
                </a:cubicBezTo>
                <a:cubicBezTo>
                  <a:pt x="440" y="872"/>
                  <a:pt x="1040" y="880"/>
                  <a:pt x="1200" y="912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3048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20" y="284"/>
                  <a:pt x="40" y="568"/>
                  <a:pt x="240" y="720"/>
                </a:cubicBezTo>
                <a:cubicBezTo>
                  <a:pt x="440" y="872"/>
                  <a:pt x="1040" y="880"/>
                  <a:pt x="1200" y="912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50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2670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100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3886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200 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971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urvas de indi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124080"/>
            <a:ext cx="1828800" cy="213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2767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cta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048120"/>
            <a:ext cx="15228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5181480"/>
            <a:ext cx="15264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QUILIBRIO DEL CONSUMI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14640" y="2176560"/>
            <a:ext cx="0" cy="32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4640" y="5416560"/>
            <a:ext cx="424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00480" y="2824200"/>
            <a:ext cx="295272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62280" y="2463840"/>
            <a:ext cx="294948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93920" y="2176560"/>
            <a:ext cx="294984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2209680"/>
            <a:ext cx="14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3616200"/>
            <a:ext cx="1224000" cy="180036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4869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ecta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56120" y="54165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666880" y="4419720"/>
            <a:ext cx="763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4495680"/>
            <a:ext cx="5331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4495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40766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nto de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Profesor a cargo:    Dra. Lilia Sonia S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416720" cy="4497480"/>
          </a:xfrm>
          <a:prstGeom prst="rect">
            <a:avLst/>
          </a:prstGeom>
          <a:solidFill>
            <a:srgbClr val="fff7d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Profesores integrantes de la Cátedra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Dra. Maria Victoria Oyuela R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Dra. Sonia 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28800" y="6026040"/>
            <a:ext cx="6415200" cy="83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OPTIMO DELCONSUMIDOR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OPTIMO DE CONSUMO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 alcanza cuando la curva de indiferencia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s tangente a la recta de presupuesto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En ese  punto: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a Tasa Marginal de Sustitución es igual a la negativa del cociente de pre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411280" y="5805360"/>
            <a:ext cx="6486480" cy="841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57440" y="501336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MS X/Y = Precio del bien X / Precio del bie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FECTO PRE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14640" y="2176560"/>
            <a:ext cx="0" cy="32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5445000"/>
            <a:ext cx="4248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2852640"/>
            <a:ext cx="2952720" cy="237672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424240"/>
            <a:ext cx="294948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209680"/>
            <a:ext cx="14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12840" y="3616200"/>
            <a:ext cx="1224000" cy="180036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66880" y="4419720"/>
            <a:ext cx="763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4267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657600"/>
            <a:ext cx="3124080" cy="1752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352680" y="4267080"/>
            <a:ext cx="76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495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954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FECTO INGRESO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FECTO SUSTITU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14640" y="2176560"/>
            <a:ext cx="0" cy="32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14640" y="5416560"/>
            <a:ext cx="424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852640"/>
            <a:ext cx="2952720" cy="237672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2421000"/>
            <a:ext cx="294948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209680"/>
            <a:ext cx="14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12840" y="3616200"/>
            <a:ext cx="1224000" cy="180036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666880" y="4419720"/>
            <a:ext cx="763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495680"/>
            <a:ext cx="5331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495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267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3645000"/>
            <a:ext cx="3124440" cy="1752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52680" y="4267080"/>
            <a:ext cx="76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4343400"/>
            <a:ext cx="0" cy="106668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343400"/>
            <a:ext cx="12189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267080"/>
            <a:ext cx="380880" cy="7632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05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4419720"/>
            <a:ext cx="1905120" cy="914400"/>
          </a:xfrm>
          <a:prstGeom prst="line">
            <a:avLst/>
          </a:prstGeom>
          <a:ln w="19080">
            <a:solidFill>
              <a:srgbClr val="f016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4080" y="4724280"/>
            <a:ext cx="76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2226600">
            <a:off x="2843280" y="4437000"/>
            <a:ext cx="411120" cy="150840"/>
          </a:xfrm>
          <a:custGeom>
            <a:avLst/>
            <a:gdLst>
              <a:gd name="textAreaLeft" fmla="*/ 0 w 411120"/>
              <a:gd name="textAreaRight" fmla="*/ 411480 w 411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01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 función de demanda representa las  distintas cantidades de bienes que un consumidor esta dispuesto a comprar considerando los distintos pre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a relación entre la cantidad demanda y precio del bien es inversamente proporc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  Aumenta la variable cantidad  y disminuye la variable preci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619280" y="5589720"/>
            <a:ext cx="7056360" cy="91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LEY DE DEMAND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I EL PRECIO DE UN BIEN AUMENTA DISMINUYE LA CANTIDAD DEMANDADA Y VISE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LO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L RESTO DE VARIABLES QUE  CONFORMAN LA DEMANDA SE MANTIENEN  CONS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340000" y="5703840"/>
            <a:ext cx="6486480" cy="841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VARIABLES QUE INTERVIENEN EN LA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Variables que analiza el consum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El precio del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La cantidad del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El precio del resto de los bi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El i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Las preferencias o gus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Elementos especiales:  clima. Expectativas fu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340000" y="5805360"/>
            <a:ext cx="6486480" cy="841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692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VARIACIÓN DE CANTIDAD DEMAN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2492280"/>
            <a:ext cx="487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l-GR" sz="2800" spc="-1" strike="noStrike">
                <a:solidFill>
                  <a:srgbClr val="ff9900"/>
                </a:solidFill>
                <a:latin typeface="Times New Roman"/>
              </a:rPr>
              <a:t>Δ</a:t>
            </a: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              k        </a:t>
            </a:r>
            <a:r>
              <a:rPr b="0" lang="el-GR" sz="2800" spc="-1" strike="noStrike">
                <a:solidFill>
                  <a:srgbClr val="ff9900"/>
                </a:solidFill>
                <a:latin typeface="Times New Roman"/>
              </a:rPr>
              <a:t>Δ</a:t>
            </a: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ff9900"/>
                </a:solidFill>
                <a:latin typeface="Times New Roman"/>
              </a:rPr>
              <a:t>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/Q</a:t>
            </a:r>
            <a:r>
              <a:rPr b="0" lang="es-ES" sz="2000" spc="-1" strike="noStrike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= (P,  Prb,Y,Pc,Pb,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k       </a:t>
            </a:r>
            <a:r>
              <a:rPr b="0" lang="el-GR" sz="2800" spc="-1" strike="noStrike">
                <a:solidFill>
                  <a:srgbClr val="ff3300"/>
                </a:solidFill>
                <a:latin typeface="Times New Roman"/>
              </a:rPr>
              <a:t>Δ</a:t>
            </a: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l-GR" sz="2800" spc="-1" strike="noStrike">
                <a:solidFill>
                  <a:srgbClr val="ff3300"/>
                </a:solidFill>
                <a:latin typeface="Times New Roman"/>
              </a:rPr>
              <a:t>Δ</a:t>
            </a:r>
            <a:r>
              <a:rPr b="0" lang="es-E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ff3300"/>
                </a:solidFill>
                <a:latin typeface="Times New Roman"/>
              </a:rPr>
              <a:t>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4437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VARIACIÓN DE  DEMAN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4365720"/>
            <a:ext cx="6193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4365720"/>
            <a:ext cx="66978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VARIA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979640" y="5734080"/>
            <a:ext cx="6980040" cy="906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771640" y="1413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524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9800" y="2276640"/>
            <a:ext cx="0" cy="3097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9800" y="5373720"/>
            <a:ext cx="4822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3068640"/>
            <a:ext cx="3168720" cy="20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8472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10160" y="47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9800" y="378936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78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800" y="4292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4720" y="429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364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4864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4864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733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267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876320" y="5915160"/>
            <a:ext cx="7267680" cy="94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Movimientos y desplaza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557360"/>
            <a:ext cx="8229600" cy="5300640"/>
          </a:xfrm>
          <a:prstGeom prst="rect">
            <a:avLst/>
          </a:prstGeom>
          <a:solidFill>
            <a:srgbClr val="f9f7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09800" y="2276640"/>
            <a:ext cx="0" cy="3097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9800" y="5373720"/>
            <a:ext cx="4822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11280" y="3068640"/>
            <a:ext cx="3168720" cy="20876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349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10160" y="4724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9800" y="378936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378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9800" y="429264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4292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3200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5080" y="537372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8720" y="537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16360" y="2565360"/>
            <a:ext cx="3168360" cy="2087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95640" y="3645000"/>
            <a:ext cx="2520720" cy="1655640"/>
          </a:xfrm>
          <a:prstGeom prst="line">
            <a:avLst/>
          </a:prstGeom>
          <a:ln w="316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3581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203640" y="4076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54640" y="3352680"/>
            <a:ext cx="19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Desplaz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1080" y="3716280"/>
            <a:ext cx="142920" cy="14436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1640" y="4221000"/>
            <a:ext cx="144360" cy="1447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56000" y="407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Mov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4720" y="4292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501336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160400">
            <a:off x="3731760" y="3746520"/>
            <a:ext cx="771480" cy="441360"/>
          </a:xfrm>
          <a:custGeom>
            <a:avLst/>
            <a:gdLst>
              <a:gd name="textAreaLeft" fmla="*/ 0 w 771480"/>
              <a:gd name="textAreaRight" fmla="*/ 771840 w 7714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02988"/>
                <a:lnTo>
                  <a:pt x="648" y="7115"/>
                </a:lnTo>
                <a:arcTo wR="10800" hR="10800" stAng="-9602988" swAng="960298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8de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ELASTICIDAD PRECIO DE LA DEMANDA</a:t>
            </a:r>
            <a:br>
              <a:rPr sz="36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La elasticidad precio mide la sensibilidad de la función de demanda en relación a las variaciones de precios.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El coeficiente indica las variaciones en la cantidad demandada en relación a las variaciones porcentuales en el precio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Ep = </a:t>
            </a:r>
            <a:r>
              <a:rPr b="0" lang="es-ES_tradnl" sz="2400" spc="-1" strike="noStrike">
                <a:solidFill>
                  <a:srgbClr val="ff99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9900"/>
                </a:solidFill>
                <a:latin typeface="Times New Roman"/>
              </a:rPr>
              <a:t> Δq/Δp . P/q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El coeficiente puede ser: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Mayor a 1, elástica.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Menor a 1,inelástica</a:t>
            </a:r>
            <a:br>
              <a:rPr sz="2400"/>
            </a:br>
            <a:r>
              <a:rPr b="0" lang="es-ES_tradnl" sz="2400" spc="-1" strike="noStrike">
                <a:solidFill>
                  <a:srgbClr val="009900"/>
                </a:solidFill>
                <a:latin typeface="Times New Roman"/>
              </a:rPr>
              <a:t>Igual a 1,  u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835280" y="5587920"/>
            <a:ext cx="7129440" cy="92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AR" sz="3600" spc="-1" strike="noStrike">
                <a:solidFill>
                  <a:srgbClr val="ff9900"/>
                </a:solidFill>
                <a:latin typeface="Times New Roman"/>
              </a:rPr>
              <a:t>ECONOMIA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008000"/>
                </a:solidFill>
                <a:latin typeface="Times New Roman"/>
              </a:rPr>
              <a:t>La economía, es una ciencia social que estudia la forma de asignar los recursos que son escasos para producir bienes y servicios y distribuirlos entre los miembros de una sociedad.</a:t>
            </a:r>
            <a:r>
              <a:rPr b="1" lang="es-AR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s-AR" sz="900" spc="-1" strike="noStrike">
                <a:solidFill>
                  <a:srgbClr val="008000"/>
                </a:solidFill>
                <a:latin typeface="Times New Roman"/>
              </a:rPr>
              <a:t>(1)</a:t>
            </a:r>
            <a:r>
              <a:rPr b="0" i="1" lang="es-AR" sz="900" spc="-1" strike="noStrike">
                <a:solidFill>
                  <a:srgbClr val="006600"/>
                </a:solidFill>
                <a:latin typeface="Times New Roman"/>
              </a:rPr>
              <a:t> Paul Samuelson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3640" y="5834160"/>
            <a:ext cx="5478480" cy="71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ELASTICIDAD INGRESO</a:t>
            </a:r>
            <a:br>
              <a:rPr sz="3600"/>
            </a:br>
            <a:br>
              <a:rPr sz="1600"/>
            </a:br>
            <a:br>
              <a:rPr sz="1600"/>
            </a:b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Mide las variaciones porcentuales en la cantidad demandada como consecuencia de las variaciones porcentuales en el ingreso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Ei = Δq/Δi . i/q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coeficiente obtenido de la formula puede ser un valor mayor o meno a cero.</a:t>
            </a:r>
            <a:br>
              <a:rPr sz="2800"/>
            </a:b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Mayor a cero, y positivo, es un bien normal. </a:t>
            </a:r>
            <a:br>
              <a:rPr sz="2800"/>
            </a:b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Hay una  relación directamente proporcional entre consumo e ingr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35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771640" y="6062760"/>
            <a:ext cx="6121440" cy="79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LASTICIDAD INGRE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Si el valor resulta menor a cero, por tanto un valor negativo, el bien que analizamos   es infer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Si el ingreso del consumidor aumenta, consumirá menos cantidad de este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Si el ingreso disminuye, consumirá mas cantidad de ese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xiste entonces una relación inversamente proporcional entre el consumo y el ingreso</a:t>
            </a:r>
            <a:r>
              <a:rPr b="0" lang="es-ES_tradnl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556000" y="5857920"/>
            <a:ext cx="6346800" cy="822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LASTICIDAD CRUZ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090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Bienes normales: el coeficiente de elasticidad ingreso es posi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Si  el coeficiente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Positivo y mayor a uno: </a:t>
            </a: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Bien  de lujo</a:t>
            </a: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Positivo y menor a uno: </a:t>
            </a: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Bien  de 1ª Nece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268360" y="5764320"/>
            <a:ext cx="6634440" cy="86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OF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s la selección alternativa de las cantidades de los distintos bienes y servicios que el productor esta dispuesto  a ofrecer, en función el precio de l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 rot="10800000">
            <a:off x="2123640" y="2931480"/>
            <a:ext cx="619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Características de l a curva de ofer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La pendiente de la curva es posi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La curva es cre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788000" y="6165720"/>
            <a:ext cx="4038480" cy="52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OF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57440" y="2276640"/>
            <a:ext cx="0" cy="331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57440" y="558972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89440" y="3068280"/>
            <a:ext cx="3670200" cy="180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555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81800" y="249228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URVA DE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7440" y="4076640"/>
            <a:ext cx="201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744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2160" y="342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11640" y="5638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0000" y="5638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4038480"/>
            <a:ext cx="76320" cy="7632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4038480"/>
            <a:ext cx="152640" cy="7632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476360" y="5862600"/>
            <a:ext cx="7667640" cy="99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VARIABLES QUE INTERVIENEN EN LA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preci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La cantidad del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precio del resto de los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costo de los factores de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La tecn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structura de mercado al que pertenezca</a:t>
            </a: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492360" y="6124680"/>
            <a:ext cx="5651640" cy="733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MOVIMIENTO  Y DESPLAZAMIENTO DE LA CURVA DE OF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7440" y="2276640"/>
            <a:ext cx="0" cy="331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7440" y="5589720"/>
            <a:ext cx="4464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059280" y="2997360"/>
            <a:ext cx="3671640" cy="1800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227640" y="555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209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7440" y="4076640"/>
            <a:ext cx="201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5744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2160" y="342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5092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0920" y="39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564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0000" y="564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987640" y="2492280"/>
            <a:ext cx="3311640" cy="1656000"/>
          </a:xfrm>
          <a:prstGeom prst="line">
            <a:avLst/>
          </a:prstGeom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492360" y="3573360"/>
            <a:ext cx="3384720" cy="1728720"/>
          </a:xfrm>
          <a:prstGeom prst="line">
            <a:avLst/>
          </a:prstGeom>
          <a:ln w="22320">
            <a:solidFill>
              <a:srgbClr val="d8d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73800" y="21337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32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4114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splaz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00720" y="4005360"/>
            <a:ext cx="122040" cy="12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3357720"/>
            <a:ext cx="122400" cy="122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29560" y="3267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1680" y="2666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84360" y="364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589040" y="5877000"/>
            <a:ext cx="7554960" cy="98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Robert H. Frank la define como “toda actividad que crea utilidad actual y futura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2707920"/>
            <a:ext cx="825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*Es  un proceso por el cual se transforman 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roductivos en bienes termi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 rot="10800000">
            <a:off x="684360" y="3762360"/>
            <a:ext cx="55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UNCION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0800000">
            <a:off x="177840" y="4366440"/>
            <a:ext cx="857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La función de producción muestra la cantidad máxima </a:t>
            </a:r>
            <a:r>
              <a:rPr b="0" lang="es-ES" sz="2000" spc="-1" strike="noStrike">
                <a:solidFill>
                  <a:srgbClr val="009900"/>
                </a:solidFill>
                <a:latin typeface="Times New Roman"/>
              </a:rPr>
              <a:t>quepuede </a:t>
            </a: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obtenerse del bien utilizando distintas combi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de capital (K) y de trabajo (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 =  f (K,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132000" y="5970600"/>
            <a:ext cx="5550120" cy="7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RTO Y LARGO PLA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rto Plazo:   Factores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rgo plazo: factores fijos 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20280" y="2223720"/>
            <a:ext cx="52495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RODUCCIÓN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N UN FACTOR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70120" y="3698280"/>
            <a:ext cx="59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LEY DE RENDIMIENTOS DEC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20" y="4731120"/>
            <a:ext cx="88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00"/>
                </a:solidFill>
                <a:latin typeface="Times New Roman"/>
              </a:rPr>
              <a:t>Disminuye la PMg. cuando se incrementan fa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340000" y="5668920"/>
            <a:ext cx="6199200" cy="8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RODUCCIÓN EN ELCORT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198900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5105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1994040"/>
            <a:ext cx="3809880" cy="3111480"/>
          </a:xfrm>
          <a:custGeom>
            <a:avLst/>
            <a:gdLst/>
            <a:ahLst/>
            <a:rect l="l" t="t" r="r" b="b"/>
            <a:pathLst>
              <a:path w="2400" h="1960">
                <a:moveTo>
                  <a:pt x="0" y="1960"/>
                </a:moveTo>
                <a:cubicBezTo>
                  <a:pt x="448" y="1164"/>
                  <a:pt x="896" y="368"/>
                  <a:pt x="1296" y="184"/>
                </a:cubicBezTo>
                <a:cubicBezTo>
                  <a:pt x="1696" y="0"/>
                  <a:pt x="2048" y="428"/>
                  <a:pt x="2400" y="856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2209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33720" y="4635360"/>
            <a:ext cx="3886200" cy="317520"/>
          </a:xfrm>
          <a:custGeom>
            <a:avLst/>
            <a:gdLst/>
            <a:ahLst/>
            <a:rect l="l" t="t" r="r" b="b"/>
            <a:pathLst>
              <a:path w="960" h="152">
                <a:moveTo>
                  <a:pt x="0" y="104"/>
                </a:moveTo>
                <a:cubicBezTo>
                  <a:pt x="64" y="52"/>
                  <a:pt x="128" y="0"/>
                  <a:pt x="288" y="8"/>
                </a:cubicBezTo>
                <a:cubicBezTo>
                  <a:pt x="448" y="16"/>
                  <a:pt x="704" y="84"/>
                  <a:pt x="960" y="152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0" y="4191120"/>
            <a:ext cx="2286000" cy="1447560"/>
          </a:xfrm>
          <a:custGeom>
            <a:avLst/>
            <a:gdLst/>
            <a:ahLst/>
            <a:rect l="l" t="t" r="r" b="b"/>
            <a:pathLst>
              <a:path w="1728" h="1096">
                <a:moveTo>
                  <a:pt x="0" y="280"/>
                </a:moveTo>
                <a:cubicBezTo>
                  <a:pt x="120" y="140"/>
                  <a:pt x="240" y="0"/>
                  <a:pt x="528" y="136"/>
                </a:cubicBezTo>
                <a:cubicBezTo>
                  <a:pt x="816" y="272"/>
                  <a:pt x="1272" y="684"/>
                  <a:pt x="1728" y="1096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50292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4572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213372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429000" y="24379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958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1752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288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Etap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tap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95320" y="36990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tapa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00"/>
                </a:solidFill>
                <a:latin typeface="Times New Roman"/>
              </a:rPr>
              <a:t>P. T. 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62320" y="2666880"/>
            <a:ext cx="457200" cy="533520"/>
          </a:xfrm>
          <a:prstGeom prst="line">
            <a:avLst/>
          </a:prstGeom>
          <a:ln w="31680">
            <a:solidFill>
              <a:srgbClr val="4541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438280"/>
            <a:ext cx="609480" cy="533520"/>
          </a:xfrm>
          <a:prstGeom prst="line">
            <a:avLst/>
          </a:prstGeom>
          <a:ln w="31680">
            <a:solidFill>
              <a:srgbClr val="4541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813040" y="6035760"/>
            <a:ext cx="6330960" cy="822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ECONOM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7272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MI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MA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5950080"/>
            <a:ext cx="6994800" cy="533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RODUCTO MEDIO DEL TRABAJO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RODUCTO MARGINAL DEL TRABAJ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PRODUCTO MEDIO DEL TRABAJO (PMe 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2996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Me t =    Q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3320" y="3788640"/>
            <a:ext cx="80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PRODUCTO MARGINAL DEL TRABAJO (PMg 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 rot="10800000">
            <a:off x="2626920" y="458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PMg t = ΔQ /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Δ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340000" y="5668920"/>
            <a:ext cx="6199200" cy="8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TAPAS DE LA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tapa de Rendimientos crecientes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Durante esta etapa el adicionar trabajadores al sistema productivo repercute en forma creciente en la función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tapa de Rendimientos decrecientes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en esta etapa encontramos que el adicionar trabajadores al sistema productivo hace crecer la producción pero a una tasa decreciente respecto de la incorporación de trabaj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tapa de Rendimientos Negativos: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etapa económicamente ineficiente ya que la incorporación de trabajadores hacen disminuir la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2556000" y="5805360"/>
            <a:ext cx="6203880" cy="8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A PRODUCCIÓN EN EL LARGO PLAZO CON DOS FACTORE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6472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ISOCUANTA:</a:t>
            </a: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  Combinaciones de capital (K) y Trabajo (L) que pueden generar un determinado nivel de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RECTA DE ISOCOSTOS: </a:t>
            </a: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Representa en cada uno de sus puntos, las diferentes combinaciones de factores productivos que la empresa puede utilizar pero dado un cierto nivel de desembol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DESEMBOLSO TOTAL :</a:t>
            </a:r>
            <a:r>
              <a:rPr b="0" lang="es-ES" sz="2800" spc="-1" strike="noStrike">
                <a:solidFill>
                  <a:srgbClr val="009900"/>
                </a:solidFill>
                <a:latin typeface="Times New Roman"/>
              </a:rPr>
              <a:t> El precio de pague por los factores productivos y su resp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T =  Pk . Qk  + Pt .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Q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2700360" y="5742000"/>
            <a:ext cx="6202440" cy="803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f0b"/>
                </a:solidFill>
                <a:latin typeface="Times New Roman"/>
              </a:rPr>
              <a:t>ISOCUANTAS : CARACTERI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Son convexas al origen de coorden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Cuando se encuentran mas lejos del origen representan mayores volúmenes de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Entre dos curvas de isocuantas pasan infinitas cur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Su pendiente es negativa y esta representada por la tasa marginal de sustitución té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ISOCUANTA ISOCOSTE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PRODUCCIÓN EN EL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71840" y="2057400"/>
            <a:ext cx="0" cy="32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71840" y="5297400"/>
            <a:ext cx="4248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43280" y="2708280"/>
            <a:ext cx="295272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19480" y="2344680"/>
            <a:ext cx="2949480" cy="237672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51120" y="2057400"/>
            <a:ext cx="2949840" cy="2376360"/>
          </a:xfrm>
          <a:custGeom>
            <a:avLst/>
            <a:gdLst/>
            <a:ahLst/>
            <a:rect l="l" t="t" r="r" b="b"/>
            <a:pathLst>
              <a:path w="1859" h="1497">
                <a:moveTo>
                  <a:pt x="0" y="0"/>
                </a:moveTo>
                <a:cubicBezTo>
                  <a:pt x="3" y="465"/>
                  <a:pt x="7" y="930"/>
                  <a:pt x="317" y="1179"/>
                </a:cubicBezTo>
                <a:cubicBezTo>
                  <a:pt x="627" y="1428"/>
                  <a:pt x="1602" y="1444"/>
                  <a:pt x="1859" y="14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209088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70040" y="3497400"/>
            <a:ext cx="1224000" cy="1800000"/>
          </a:xfrm>
          <a:prstGeom prst="line">
            <a:avLst/>
          </a:prstGeom>
          <a:ln w="316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3640" y="3284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17680" y="48657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R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124080" y="4300560"/>
            <a:ext cx="763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376880"/>
            <a:ext cx="53316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00400" y="43768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971800" y="529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414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0400" y="414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5257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f0b"/>
                </a:solidFill>
                <a:latin typeface="Times New Roman"/>
              </a:rPr>
              <a:t>TASA MARGINAL DE SUSTITUCIÓN TÉC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Representa las unidades del insumo capital que se sacrifican como consecuencia de incorporar una unidad del insumo trabajo</a:t>
            </a:r>
            <a:r>
              <a:rPr b="0" lang="es-ES_tradnl" sz="2800" spc="-1" strike="noStrike">
                <a:solidFill>
                  <a:srgbClr val="66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TMST =  ΔK/Δ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957920" y="6334200"/>
            <a:ext cx="41860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STOS DE P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471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COSTOS TOTALES  COSTOS FIJOS Y VARIABLES A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6360" y="2159640"/>
            <a:ext cx="22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T = CV +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9880" y="285156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STOS UNITARIOS: COSTO MARGINAL  COSTO MEDIO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335664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STO MARG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43280" y="34621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Mg = ΔCT /Δ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4218840"/>
            <a:ext cx="253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STO MEDIOS: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F = CF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V= CV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MT=  CT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5076720" y="6165720"/>
            <a:ext cx="3754440" cy="48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UNCIÓN LINEAL DE LA RECTA DE ISO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9876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k  =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-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k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P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627280" y="5805360"/>
            <a:ext cx="6270480" cy="812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700360" y="2421000"/>
            <a:ext cx="367200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Qk  =  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DT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- 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Q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Pk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P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RENDIMIENTOS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NDIMIENTOS CONSTANTES A ESC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NDIMIENTOS DECRECIENTES A ESC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NDIMIENTOS CRECIENTES 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268360" y="5775480"/>
            <a:ext cx="6486840" cy="841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QUILIBRIO DE PRO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LA PRODUCCIÓN MÁXIMA DE ACUERDO A UN DESEMBOLS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MINIMO COSTO O DESEMBOLSO TOTAL DE ACUERDO A UN NIVEL DE PRODU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47640" y="3932640"/>
            <a:ext cx="65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ENDA DE EXPANSIO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2050920" y="5802480"/>
            <a:ext cx="6846840" cy="88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CONOM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59520" cy="4525920"/>
          </a:xfrm>
          <a:prstGeom prst="rect">
            <a:avLst/>
          </a:prstGeom>
          <a:solidFill>
            <a:srgbClr val="f9f7c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¿PORQUE ES NECESARIO ESTUDIAR</a:t>
            </a:r>
            <a:r>
              <a:rPr b="1" lang="es-E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ECONOM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La respuesta se encuentra en el problema de  escas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scasez es la cualidad de todo recurso, o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económico que se encuentra en ca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imitadas  frente a  necesidades que son ilimitad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6093000"/>
            <a:ext cx="40384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TOS DE PRODU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9fdf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STOS F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STO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STOS TO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STO MAR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STOS MEDI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MF= CF/Q    CMV = CV /Q  CMT = CT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6275520" cy="81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o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71600" y="205740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5334120"/>
            <a:ext cx="52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5334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76360" y="2637000"/>
            <a:ext cx="3962520" cy="2387520"/>
          </a:xfrm>
          <a:custGeom>
            <a:avLst/>
            <a:gdLst/>
            <a:ahLst/>
            <a:rect l="l" t="t" r="r" b="b"/>
            <a:pathLst>
              <a:path w="2880" h="1648">
                <a:moveTo>
                  <a:pt x="0" y="960"/>
                </a:moveTo>
                <a:cubicBezTo>
                  <a:pt x="168" y="1304"/>
                  <a:pt x="336" y="1648"/>
                  <a:pt x="816" y="1488"/>
                </a:cubicBezTo>
                <a:cubicBezTo>
                  <a:pt x="1296" y="1328"/>
                  <a:pt x="2088" y="664"/>
                  <a:pt x="288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03640" y="3141720"/>
            <a:ext cx="3352680" cy="1155600"/>
          </a:xfrm>
          <a:custGeom>
            <a:avLst/>
            <a:gdLst/>
            <a:ahLst/>
            <a:rect l="l" t="t" r="r" b="b"/>
            <a:pathLst>
              <a:path w="2544" h="920">
                <a:moveTo>
                  <a:pt x="0" y="624"/>
                </a:moveTo>
                <a:cubicBezTo>
                  <a:pt x="100" y="772"/>
                  <a:pt x="200" y="920"/>
                  <a:pt x="624" y="816"/>
                </a:cubicBezTo>
                <a:cubicBezTo>
                  <a:pt x="1048" y="712"/>
                  <a:pt x="2224" y="136"/>
                  <a:pt x="2544" y="0"/>
                </a:cubicBezTo>
              </a:path>
            </a:pathLst>
          </a:custGeom>
          <a:noFill/>
          <a:ln w="25560">
            <a:solidFill>
              <a:srgbClr val="f543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2492280"/>
            <a:ext cx="2819160" cy="927360"/>
          </a:xfrm>
          <a:custGeom>
            <a:avLst/>
            <a:gdLst/>
            <a:ahLst/>
            <a:rect l="l" t="t" r="r" b="b"/>
            <a:pathLst>
              <a:path w="2544" h="920">
                <a:moveTo>
                  <a:pt x="0" y="624"/>
                </a:moveTo>
                <a:cubicBezTo>
                  <a:pt x="100" y="772"/>
                  <a:pt x="200" y="920"/>
                  <a:pt x="624" y="816"/>
                </a:cubicBezTo>
                <a:cubicBezTo>
                  <a:pt x="1048" y="712"/>
                  <a:pt x="2224" y="136"/>
                  <a:pt x="2544" y="0"/>
                </a:cubicBezTo>
              </a:path>
            </a:pathLst>
          </a:custGeom>
          <a:noFill/>
          <a:ln w="25560">
            <a:solidFill>
              <a:srgbClr val="f6c3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41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6294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95640" y="486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191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3352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4876920"/>
            <a:ext cx="228600" cy="75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4114800"/>
            <a:ext cx="228600" cy="76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3352680"/>
            <a:ext cx="228600" cy="76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5410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61928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00"/>
                </a:solidFill>
                <a:latin typeface="Times New Roman"/>
              </a:rPr>
              <a:t>EQUILIBRIO DEL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equilibrio del mercado se logra cuando a un mismo precio se igualan las cantidades ofrecidas y demand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00000" y="346608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No hay excedente, ni escasez, ya sea de oferta y de dema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859280" y="6165720"/>
            <a:ext cx="4043520" cy="52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QUILIBR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95640" y="2349360"/>
            <a:ext cx="0" cy="316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95640" y="5516640"/>
            <a:ext cx="4321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2000" y="5516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58920" y="2205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627280" y="2852280"/>
            <a:ext cx="3673440" cy="20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73800" y="2492280"/>
            <a:ext cx="1581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89440" y="2852640"/>
            <a:ext cx="3238200" cy="2089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27640" y="443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95640" y="3860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3860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380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5516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27640" y="3789360"/>
            <a:ext cx="19512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16360" y="242100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casez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xcedente de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71640" y="443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scasez de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cedente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460680" y="6121440"/>
            <a:ext cx="5683320" cy="73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f0b"/>
                </a:solidFill>
                <a:latin typeface="Times New Roman"/>
              </a:rPr>
              <a:t>MERC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OMPETENCIA PERF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COMPETENCIA IMPERF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932360" y="6165720"/>
            <a:ext cx="4038480" cy="52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af0b"/>
                </a:solidFill>
                <a:latin typeface="Times New Roman"/>
              </a:rPr>
              <a:t>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03280" y="1557360"/>
            <a:ext cx="696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xiste un gran numero de produ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productor es precio acep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producto es homogéne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Flexibilidad para entrar o salir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Ausencia de barreras de ingre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El productor se encuentra con una cur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00"/>
                </a:solidFill>
                <a:latin typeface="Times New Roman"/>
              </a:rPr>
              <a:t>de demanda horizo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c342"/>
                </a:solidFill>
                <a:latin typeface="Times New Roman"/>
              </a:rPr>
              <a:t>COMPETENCIA PERF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360" y="1989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5640" y="2492280"/>
            <a:ext cx="0" cy="28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5300640"/>
            <a:ext cx="3168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16360" y="2492280"/>
            <a:ext cx="0" cy="28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5300640"/>
            <a:ext cx="3384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7280" y="3068640"/>
            <a:ext cx="237672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187280" y="3141360"/>
            <a:ext cx="2305080" cy="165564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393372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41440" y="4005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95720" y="5334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12080" y="5338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43400" y="23623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755640" y="3933720"/>
            <a:ext cx="396072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64000" y="47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236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95640" y="54151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Q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2360" y="36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2764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P =D = Img =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19051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Mercado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23623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1964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472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af0b"/>
                </a:solidFill>
                <a:latin typeface="Times New Roman"/>
              </a:rPr>
              <a:t>SITUACIÓN DE GAN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P =D = Img =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6880" y="5334120"/>
            <a:ext cx="4648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700360" y="3789360"/>
            <a:ext cx="441972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43280" y="2492280"/>
            <a:ext cx="3673440" cy="2578320"/>
          </a:xfrm>
          <a:custGeom>
            <a:avLst/>
            <a:gdLst/>
            <a:ahLst/>
            <a:rect l="l" t="t" r="r" b="b"/>
            <a:pathLst>
              <a:path w="2304" h="1624">
                <a:moveTo>
                  <a:pt x="0" y="1104"/>
                </a:moveTo>
                <a:cubicBezTo>
                  <a:pt x="96" y="1364"/>
                  <a:pt x="192" y="1624"/>
                  <a:pt x="576" y="1440"/>
                </a:cubicBezTo>
                <a:cubicBezTo>
                  <a:pt x="960" y="1256"/>
                  <a:pt x="1632" y="628"/>
                  <a:pt x="2304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3809880"/>
            <a:ext cx="0" cy="15242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32360" y="3716280"/>
            <a:ext cx="15228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4000" y="414972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48"/>
                </a:moveTo>
                <a:cubicBezTo>
                  <a:pt x="100" y="148"/>
                  <a:pt x="200" y="248"/>
                  <a:pt x="384" y="240"/>
                </a:cubicBezTo>
                <a:cubicBezTo>
                  <a:pt x="568" y="232"/>
                  <a:pt x="836" y="116"/>
                  <a:pt x="1104" y="0"/>
                </a:cubicBezTo>
              </a:path>
            </a:pathLst>
          </a:custGeom>
          <a:noFill/>
          <a:ln w="255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666880" y="4267080"/>
            <a:ext cx="23623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71640" y="3860640"/>
            <a:ext cx="2210040" cy="459720"/>
          </a:xfrm>
          <a:prstGeom prst="rect">
            <a:avLst/>
          </a:prstGeom>
          <a:solidFill>
            <a:srgbClr val="f1fca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AN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666880" y="2057400"/>
            <a:ext cx="0" cy="3276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af0b"/>
                </a:solidFill>
                <a:latin typeface="Times New Roman"/>
              </a:rPr>
              <a:t>PERDIDA MI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360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=D = Img =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666880" y="5334120"/>
            <a:ext cx="4648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3809880"/>
            <a:ext cx="4419720" cy="0"/>
          </a:xfrm>
          <a:prstGeom prst="line">
            <a:avLst/>
          </a:prstGeom>
          <a:ln w="19080">
            <a:solidFill>
              <a:srgbClr val="13f3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238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57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514600"/>
            <a:ext cx="3657600" cy="2577960"/>
          </a:xfrm>
          <a:custGeom>
            <a:avLst/>
            <a:gdLst/>
            <a:ahLst/>
            <a:rect l="l" t="t" r="r" b="b"/>
            <a:pathLst>
              <a:path w="2304" h="1624">
                <a:moveTo>
                  <a:pt x="0" y="1104"/>
                </a:moveTo>
                <a:cubicBezTo>
                  <a:pt x="96" y="1364"/>
                  <a:pt x="192" y="1624"/>
                  <a:pt x="576" y="1440"/>
                </a:cubicBezTo>
                <a:cubicBezTo>
                  <a:pt x="960" y="1256"/>
                  <a:pt x="1632" y="628"/>
                  <a:pt x="2304" y="0"/>
                </a:cubicBezTo>
              </a:path>
            </a:pathLst>
          </a:custGeom>
          <a:noFill/>
          <a:ln w="25560">
            <a:solidFill>
              <a:srgbClr val="77dfe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76720" y="314172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52880" y="373392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364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051520" y="296388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48"/>
                </a:moveTo>
                <a:cubicBezTo>
                  <a:pt x="100" y="148"/>
                  <a:pt x="200" y="248"/>
                  <a:pt x="384" y="240"/>
                </a:cubicBezTo>
                <a:cubicBezTo>
                  <a:pt x="568" y="232"/>
                  <a:pt x="836" y="116"/>
                  <a:pt x="1104" y="0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08680" y="275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666880" y="4419720"/>
            <a:ext cx="2362320" cy="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7712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32360" y="2989440"/>
            <a:ext cx="15228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492360" y="414972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288"/>
                </a:moveTo>
                <a:cubicBezTo>
                  <a:pt x="0" y="384"/>
                  <a:pt x="0" y="480"/>
                  <a:pt x="240" y="432"/>
                </a:cubicBezTo>
                <a:cubicBezTo>
                  <a:pt x="480" y="384"/>
                  <a:pt x="960" y="192"/>
                  <a:pt x="14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00360" y="3068640"/>
            <a:ext cx="2409840" cy="7920"/>
          </a:xfrm>
          <a:prstGeom prst="line">
            <a:avLst/>
          </a:prstGeom>
          <a:ln w="9360">
            <a:solidFill>
              <a:srgbClr val="66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22560" y="3213000"/>
            <a:ext cx="1981080" cy="459720"/>
          </a:xfrm>
          <a:prstGeom prst="rect">
            <a:avLst/>
          </a:prstGeom>
          <a:solidFill>
            <a:srgbClr val="f1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4114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2666880" y="2057400"/>
            <a:ext cx="0" cy="3276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SULTADO OPTIMO PUNTO CRI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1200" y="3510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 =D = Img =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66880" y="5334120"/>
            <a:ext cx="4648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00360" y="3789360"/>
            <a:ext cx="4419720" cy="0"/>
          </a:xfrm>
          <a:prstGeom prst="line">
            <a:avLst/>
          </a:prstGeom>
          <a:ln w="19080">
            <a:solidFill>
              <a:srgbClr val="f28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19520" y="2514600"/>
            <a:ext cx="3657600" cy="2577960"/>
          </a:xfrm>
          <a:custGeom>
            <a:avLst/>
            <a:gdLst/>
            <a:ahLst/>
            <a:rect l="l" t="t" r="r" b="b"/>
            <a:pathLst>
              <a:path w="2304" h="1624">
                <a:moveTo>
                  <a:pt x="0" y="1104"/>
                </a:moveTo>
                <a:cubicBezTo>
                  <a:pt x="96" y="1364"/>
                  <a:pt x="192" y="1624"/>
                  <a:pt x="576" y="1440"/>
                </a:cubicBezTo>
                <a:cubicBezTo>
                  <a:pt x="960" y="1256"/>
                  <a:pt x="1632" y="628"/>
                  <a:pt x="2304" y="0"/>
                </a:cubicBezTo>
              </a:path>
            </a:pathLst>
          </a:custGeom>
          <a:noFill/>
          <a:ln w="255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003640" y="3789360"/>
            <a:ext cx="25560" cy="154476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373392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4364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427640" y="342900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48"/>
                </a:moveTo>
                <a:cubicBezTo>
                  <a:pt x="100" y="148"/>
                  <a:pt x="200" y="248"/>
                  <a:pt x="384" y="240"/>
                </a:cubicBezTo>
                <a:cubicBezTo>
                  <a:pt x="568" y="232"/>
                  <a:pt x="836" y="116"/>
                  <a:pt x="1104" y="0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588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434340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00360" y="4437000"/>
            <a:ext cx="2362320" cy="0"/>
          </a:xfrm>
          <a:prstGeom prst="line">
            <a:avLst/>
          </a:prstGeom>
          <a:ln w="22320">
            <a:solidFill>
              <a:srgbClr val="13f36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92360" y="414972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288"/>
                </a:moveTo>
                <a:cubicBezTo>
                  <a:pt x="0" y="384"/>
                  <a:pt x="0" y="480"/>
                  <a:pt x="240" y="432"/>
                </a:cubicBezTo>
                <a:cubicBezTo>
                  <a:pt x="480" y="384"/>
                  <a:pt x="960" y="192"/>
                  <a:pt x="1440" y="0"/>
                </a:cubicBezTo>
              </a:path>
            </a:pathLst>
          </a:custGeom>
          <a:noFill/>
          <a:ln w="25560">
            <a:solidFill>
              <a:srgbClr val="80de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4114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56080" y="3403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R.T.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666880" y="2057400"/>
            <a:ext cx="0" cy="3276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5308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09720" y="5661000"/>
            <a:ext cx="7334280" cy="952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40720" y="-2344680"/>
            <a:ext cx="64800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49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MICROEC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341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microeconomía, se ocupa del estudio  particular de las relaciones entre los agente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Unidad de consumo   Unidad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y su  relación con los mercad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Bienes y servici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Factores de la producción o recursos pro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PUNTO MINIMO DE EXPLO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360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=D = Img =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5257800"/>
            <a:ext cx="4648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3809880"/>
            <a:ext cx="4419720" cy="0"/>
          </a:xfrm>
          <a:prstGeom prst="line">
            <a:avLst/>
          </a:prstGeom>
          <a:ln w="19080">
            <a:solidFill>
              <a:srgbClr val="f01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2400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43280" y="2492280"/>
            <a:ext cx="3657600" cy="2578320"/>
          </a:xfrm>
          <a:custGeom>
            <a:avLst/>
            <a:gdLst/>
            <a:ahLst/>
            <a:rect l="l" t="t" r="r" b="b"/>
            <a:pathLst>
              <a:path w="2304" h="1624">
                <a:moveTo>
                  <a:pt x="0" y="1104"/>
                </a:moveTo>
                <a:cubicBezTo>
                  <a:pt x="96" y="1364"/>
                  <a:pt x="192" y="1624"/>
                  <a:pt x="576" y="1440"/>
                </a:cubicBezTo>
                <a:cubicBezTo>
                  <a:pt x="960" y="1256"/>
                  <a:pt x="1632" y="628"/>
                  <a:pt x="2304" y="0"/>
                </a:cubicBezTo>
              </a:path>
            </a:pathLst>
          </a:custGeom>
          <a:noFill/>
          <a:ln w="255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29200" y="2895480"/>
            <a:ext cx="0" cy="2438640"/>
          </a:xfrm>
          <a:prstGeom prst="line">
            <a:avLst/>
          </a:prstGeom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52880" y="373392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Q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443640" y="2349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267080" y="3416400"/>
            <a:ext cx="1752840" cy="39348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48"/>
                </a:moveTo>
                <a:cubicBezTo>
                  <a:pt x="100" y="148"/>
                  <a:pt x="200" y="248"/>
                  <a:pt x="384" y="240"/>
                </a:cubicBezTo>
                <a:cubicBezTo>
                  <a:pt x="568" y="232"/>
                  <a:pt x="836" y="116"/>
                  <a:pt x="1104" y="0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51640" y="2108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52880" y="2819520"/>
            <a:ext cx="152640" cy="152280"/>
          </a:xfrm>
          <a:prstGeom prst="ellipse">
            <a:avLst/>
          </a:prstGeom>
          <a:solidFill>
            <a:srgbClr val="454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666880" y="28954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436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251460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48"/>
                </a:moveTo>
                <a:cubicBezTo>
                  <a:pt x="100" y="148"/>
                  <a:pt x="200" y="248"/>
                  <a:pt x="384" y="240"/>
                </a:cubicBezTo>
                <a:cubicBezTo>
                  <a:pt x="568" y="232"/>
                  <a:pt x="836" y="116"/>
                  <a:pt x="1104" y="0"/>
                </a:cubicBezTo>
              </a:path>
            </a:pathLst>
          </a:custGeom>
          <a:noFill/>
          <a:ln w="25560">
            <a:solidFill>
              <a:srgbClr val="7167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771640" y="2924280"/>
            <a:ext cx="22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2057400"/>
            <a:ext cx="10670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666880" y="2133720"/>
            <a:ext cx="0" cy="31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731960" y="5894280"/>
            <a:ext cx="7412040" cy="96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COMPETENCIA IMPERF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MON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OMPETENCA MONOPOL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00720" y="6165720"/>
            <a:ext cx="4038480" cy="52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MONOP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07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 la organización del mercado en la que existe un único vendedor, que lo abastece tot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uede surgir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) Control exclusivo de factor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b) Descenso de costos que elimina la competenci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) Patentes exclusiv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) Licencias o concesiones esta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932360" y="6093000"/>
            <a:ext cx="40435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MONOP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124000" y="1989000"/>
            <a:ext cx="0" cy="331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51000" y="5280120"/>
            <a:ext cx="46814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26240" y="528012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33640" y="1676520"/>
            <a:ext cx="1163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24000" y="2637000"/>
            <a:ext cx="3803760" cy="24890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26240" y="463248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24000" y="2637000"/>
            <a:ext cx="2305080" cy="30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88000" y="5445000"/>
            <a:ext cx="5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Arial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41520" y="3335400"/>
            <a:ext cx="3600360" cy="1068480"/>
          </a:xfrm>
          <a:custGeom>
            <a:avLst/>
            <a:gdLst/>
            <a:ahLst/>
            <a:rect l="l" t="t" r="r" b="b"/>
            <a:pathLst>
              <a:path w="2268" h="673">
                <a:moveTo>
                  <a:pt x="0" y="226"/>
                </a:moveTo>
                <a:cubicBezTo>
                  <a:pt x="15" y="449"/>
                  <a:pt x="31" y="673"/>
                  <a:pt x="409" y="635"/>
                </a:cubicBezTo>
                <a:cubicBezTo>
                  <a:pt x="787" y="597"/>
                  <a:pt x="1958" y="106"/>
                  <a:pt x="2268" y="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41880" y="31194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33"/>
                </a:solidFill>
                <a:latin typeface="Arial"/>
              </a:rPr>
              <a:t>C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75000" y="3479760"/>
            <a:ext cx="0" cy="18003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151000" y="34797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69960" y="3251160"/>
            <a:ext cx="6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59000" y="535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Q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05160" y="3408480"/>
            <a:ext cx="14148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1809720" y="5905440"/>
            <a:ext cx="7334280" cy="95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OLIGOP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ARACTERIST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Es un mercado en el que sólo existen unos pocos vendedores impor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Cada uno considera la conducta de los demás para tomar sus decisiones de precio y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Modelos de interdepen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opolio de Cournot – Modelo de Bertrand – Modelo de Stackelberg (Empresa lí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*Conductas colusorias / Aplicación de la teoría de los jue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4788000" y="6093000"/>
            <a:ext cx="4038480" cy="52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COMPETENCIA MONOPOLI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*Existencia de numerosas empresas que producen cada una un bien sustitutivo imperfecto del bien que producen la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*Libre entrada y salida de empresas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*Gran influencia de las preferencias de los consumidores y la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00"/>
                </a:solidFill>
                <a:latin typeface="Arial"/>
              </a:rPr>
              <a:t>*Modelo principal: Chamber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2556000" y="6035760"/>
            <a:ext cx="6341760" cy="822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MICRO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EORÍA DEL CONS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EORÍA DE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EORÍA DE LOS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EORÍA DE LA DITR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27280" y="5877000"/>
            <a:ext cx="6300720" cy="81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AR" sz="3600" spc="-1" strike="noStrike">
                <a:solidFill>
                  <a:srgbClr val="ff9900"/>
                </a:solidFill>
                <a:latin typeface="Times New Roman"/>
              </a:rPr>
              <a:t>RECURSOS</a:t>
            </a:r>
            <a:br>
              <a:rPr sz="3600"/>
            </a:br>
            <a:br>
              <a:rPr sz="3600"/>
            </a:b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Son los insumos o factores utilizados en la producción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147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Se  clasifican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Recursos naturales.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Recurso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Recursos d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5773680"/>
            <a:ext cx="70200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BI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Biene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No son objeto de   estudio   de    la 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Características: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Abu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Neces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Valor su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0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Bien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Son objet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estudio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Es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 Neces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                 </a:t>
            </a:r>
            <a:r>
              <a:rPr b="0" lang="es-AR" sz="2800" spc="-1" strike="noStrike">
                <a:solidFill>
                  <a:srgbClr val="006600"/>
                </a:solidFill>
                <a:latin typeface="Times New Roman"/>
              </a:rPr>
              <a:t>* Valo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6051600"/>
            <a:ext cx="6227640" cy="80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04:21:52Z</dcterms:created>
  <dc:creator>User</dc:creator>
  <dc:description/>
  <dc:language>en-US</dc:language>
  <cp:lastModifiedBy>linarerl</cp:lastModifiedBy>
  <dcterms:modified xsi:type="dcterms:W3CDTF">2010-06-28T20:20:07Z</dcterms:modified>
  <cp:revision>35</cp:revision>
  <dc:subject/>
  <dc:title>Diapositiva 1</dc:title>
</cp:coreProperties>
</file>