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6D2-FFDB-492A-97D9-8E9499C4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1D7-DA9A-471E-89FD-7829B626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158-332E-4DA7-97BF-2BD1F1BF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5C0-EDB5-4CE1-B8C7-346B76CD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3FAD-83F4-4D2C-B7DD-B4CFF1BF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1BB2-DA20-4847-A41F-4C571898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C9F2-3072-4B19-AF9B-CD7C9BEB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F6B0-DDA3-401C-B29C-29DB5A99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851B-8D81-4013-A7F0-8DC76B64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39ED-9D98-4579-B3E8-C69FE7B3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3CC7-E8F5-45A1-971F-E9C8E844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34E-8F6D-4AD8-947E-BEA446CD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E793-45D7-454C-8355-75BA2876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AE52-F1BE-4CC7-BCD6-7F4624E8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47F2-90B2-4A8F-8183-9EA72921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8BF5-8926-4E6F-8751-8B6B8A39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9DF1-CB6B-4BBB-AAD3-93B5772F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9F9-8E0D-4539-9D72-BFADC448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FFF-B643-4595-92B4-C06D3D03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951-D4E4-4747-91AD-5718A9C8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0C8-73C3-4273-8C06-33B3362F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D43-9AD2-43A6-A46B-49C3C628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B9E-9496-4A4B-82B2-12B10FD1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82A-7F23-4899-B210-0B78F2C6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43C7-8536-4B53-A744-148761C610C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A6F7-C5E4-4EDA-A163-CB378154684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kezona.com/bicicletas/todobici-busqueda.asp?Marca=165&amp;anio=2000&amp;Tipo=0&amp;Precio=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.playstation.com/hardware/console.jhtml?hardwareId=1000066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2.coca-cola.com/index.html" TargetMode="External"/><Relationship Id="rId2" Type="http://schemas.openxmlformats.org/officeDocument/2006/relationships/hyperlink" Target="http://www2.coca-cola.com/index.html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Una nueva manera de </a:t>
            </a:r>
            <a:br>
              <a:rPr sz="3600"/>
            </a:b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hacer market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47160" y="2666880"/>
            <a:ext cx="59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3366"/>
                </a:solidFill>
                <a:latin typeface="Verdana"/>
              </a:rPr>
              <a:t>Posicionamient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52484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Verdana"/>
              </a:rPr>
              <a:t>Bibliografía:</a:t>
            </a:r>
            <a:r>
              <a:rPr b="0" lang="es-MX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Verdana"/>
              </a:rPr>
              <a:t>Posicionamiento; Ries, Al y Trouth;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Verdana"/>
              </a:rPr>
              <a:t>Ed. McGraw Hil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91160" y="2065320"/>
            <a:ext cx="32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3.1- En la M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28195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Algunos conceptos esenciales: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Es imprescindible comunicar nuestros avances y nuevos productos para establecer nuevas categorías y nuestra posición en la mente del consumido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i quiere causar impresión no se aproxime, golpee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El nombre de nuestro producto nuevo, debe ser atractivo y fácil de recorda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0920" y="206532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4.- Percep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2819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La realidad en marketing es la percepción del cliente. Si lo que comunicamos no es percibido por el cliente, no sirv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6" name="peugeot_cycles" descr="Bicicletas PEUGE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2895480" cy="1689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276720" y="4267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i el producto no concuerda con la imagen de marca (percepción) que tiene en su mente no será exitos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06200" y="2065320"/>
            <a:ext cx="23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5.- Enfoq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2819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Solo un concepto o palabra en la mente del consumidor / clien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40384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i encuentra la palabra o concepto indicado, su marca puede durar para siempre en la mente del consumidor con ese atribut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3" name="1x1_trans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334" name="1x1_trans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335" name="idmodul_logo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38600" y="206532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5.1- Enfoq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2749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Important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El enfoque es una de las más poderosas herramientas de marketing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i se le da un concepto al consumidor, el trabajo de diseminarlo lo hará él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Hay que reducir el campo de acción: para decir una cosas importante no es necesario decir much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04760" y="2065320"/>
            <a:ext cx="24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6.- Dual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819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A largo plazo, solo dos marcas tendrán oportunidades similares de liderar 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3733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olo hay lugar para dos grandes marcas por cada categoría en la mente del consumidor. La tercera está en problemas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3" name="05homePagePromo_Base_silver_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5265720"/>
            <a:ext cx="4419720" cy="1592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66680" y="1685880"/>
            <a:ext cx="88120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5" name="XBOX_2_8" descr="Xbox 360: coming soon"/>
          <p:cNvPicPr/>
          <p:nvPr/>
        </p:nvPicPr>
        <p:blipFill>
          <a:blip r:embed="rId3"/>
          <a:stretch/>
        </p:blipFill>
        <p:spPr>
          <a:xfrm>
            <a:off x="304920" y="4572000"/>
            <a:ext cx="19717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05480" y="206532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7.- Opues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914400" y="5562720"/>
            <a:ext cx="6059520" cy="647640"/>
            <a:chOff x="914400" y="5562720"/>
            <a:chExt cx="6059520" cy="647640"/>
          </a:xfrm>
        </p:grpSpPr>
        <p:grpSp>
          <p:nvGrpSpPr>
            <p:cNvPr id="349" name=""/>
            <p:cNvGrpSpPr/>
            <p:nvPr/>
          </p:nvGrpSpPr>
          <p:grpSpPr>
            <a:xfrm>
              <a:off x="914400" y="5562720"/>
              <a:ext cx="6059520" cy="647640"/>
              <a:chOff x="914400" y="5562720"/>
              <a:chExt cx="6059520" cy="647640"/>
            </a:xfrm>
          </p:grpSpPr>
          <p:sp>
            <p:nvSpPr>
              <p:cNvPr id="350" name=""/>
              <p:cNvSpPr/>
              <p:nvPr/>
            </p:nvSpPr>
            <p:spPr>
              <a:xfrm>
                <a:off x="914400" y="5562720"/>
                <a:ext cx="6059520" cy="6476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14400" y="5562720"/>
                <a:ext cx="6059520" cy="6476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 u="sng">
                    <a:solidFill>
                      <a:srgbClr val="003366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s-ES" sz="4900" spc="-1" strike="noStrike">
                    <a:solidFill>
                      <a:srgbClr val="003366"/>
                    </a:solidFill>
                    <a:latin typeface="Times New Roman"/>
                  </a:rPr>
                  <a:t> </a:t>
                </a:r>
                <a:r>
                  <a:rPr b="0" lang="es-ES" sz="2400" spc="-1" strike="noStrike">
                    <a:solidFill>
                      <a:srgbClr val="003366"/>
                    </a:solidFill>
                    <a:latin typeface="Times New Roman"/>
                  </a:rPr>
                  <a:t>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pic>
          <p:nvPicPr>
            <p:cNvPr id="352" name="logo" descr="Logo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064520" y="5598000"/>
              <a:ext cx="331668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3" name="logo_pepsi_brands" descr=""/>
          <p:cNvPicPr/>
          <p:nvPr/>
        </p:nvPicPr>
        <p:blipFill>
          <a:blip r:embed="rId4"/>
          <a:stretch/>
        </p:blipFill>
        <p:spPr>
          <a:xfrm>
            <a:off x="6324480" y="3505320"/>
            <a:ext cx="2819520" cy="14968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14400" y="2819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omo se logra ser un “potente” segundo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Hay que hacer lo contrario de lo que el líder hac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37520" y="2065320"/>
            <a:ext cx="258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7.1- Opues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27496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Para considerar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Toda fortaleza encierra una debilida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Un líder no puede ser fuerte “siempre” y en “todo”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En el momento que se encuentre la debilidad del líder, la estrategia correcta será hacer lo opuest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01320" y="2065320"/>
            <a:ext cx="42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8.- Extensión de líne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2819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Si se pone la marca a muchos tipos diferentes de productos el consumidor no podrá identificarlo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45277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i eso pasa, los atributos de una marca desaparece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3" name="marolio" descr=""/>
          <p:cNvPicPr/>
          <p:nvPr/>
        </p:nvPicPr>
        <p:blipFill>
          <a:blip r:embed="rId1"/>
          <a:stretch/>
        </p:blipFill>
        <p:spPr>
          <a:xfrm>
            <a:off x="4264200" y="4419720"/>
            <a:ext cx="48798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33720" y="2065320"/>
            <a:ext cx="44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8.1- Extensión de líne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2749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Recordar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La extensión de línea a corto plazo puede estimular las ventas, pero a largo plazo el resultado es invers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Todo lo que invertimos en crear una marca y conferirle atributos en la mente del consumidor puede perderse gradualmente si no mantenemos la identificación de dicha marca con una categoría o rubro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45440" y="206532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9.- Franquez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2819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Al admitir lo negativo, el cliente le dará lo positiv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4495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La honestidad es la Mejor Política (con algunas reservas...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1" name="logo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3817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¿Que es Posicionamiento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25146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Para el autor, Marketing es, fundamentalmente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la 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onstrucción de una marc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en la mente del consumidor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740120"/>
            <a:ext cx="6400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omo se logr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on 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Publicidad y Promoció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a Clave del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251460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La clave es la </a:t>
            </a:r>
            <a:r>
              <a:rPr b="1" lang="es-ES" sz="2400" spc="-1" strike="noStrike">
                <a:solidFill>
                  <a:srgbClr val="003366"/>
                </a:solidFill>
                <a:latin typeface="Verdana"/>
              </a:rPr>
              <a:t>restricción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Estamos en una sociedad </a:t>
            </a:r>
            <a:r>
              <a:rPr b="1" i="1" lang="es-ES" sz="2400" spc="-1" strike="noStrike" u="sng">
                <a:solidFill>
                  <a:srgbClr val="003366"/>
                </a:solidFill>
                <a:uFillTx/>
                <a:latin typeface="Verdana"/>
              </a:rPr>
              <a:t>sobrecomunicada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, donde es cada vez más difícil hacer que un concepto llegue a instalarse en la mente del consumido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Utilizar esa restricción, comunicando mejor, es la clave del posicionamient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¿Como Funciona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25146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No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basta con comunicar el conjunto de atributos de un producto al mercado potencia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e debe encontrar un “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hueco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” en la mente del consumidor, que no haya sido llenado por otro producto y dirigir allí la comunicación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para llenar ese espaci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¿Como Funciona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281952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Los espacios no se llenan co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productos o servicios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SE LLENAN CON IDEAS Y CONCEP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Posicionarse es llenar el vacío en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mente del consumidor, Co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una nueva idea, un nuevo concepto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de producto o servici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38600" y="2065320"/>
            <a:ext cx="26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1.- Lideraz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20364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Es mejor ser el primero que ser el mejo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El primero en introducir un producto siempre será el más recordado y es posible que siempre lidere la categoría en la mente del consumido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g_thegillettecompany" descr=""/>
          <p:cNvPicPr/>
          <p:nvPr/>
        </p:nvPicPr>
        <p:blipFill>
          <a:blip r:embed="rId1"/>
          <a:stretch/>
        </p:blipFill>
        <p:spPr>
          <a:xfrm>
            <a:off x="6551640" y="4495680"/>
            <a:ext cx="244008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11240" y="206532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2.- Categor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28195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Si no puede ser el primero debe crear una nueva categoría para serl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El primero en introducir un producto siempre será el más recordado y es posible que siempre lidere la categoría en la mente del consumido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2470320"/>
            <a:ext cx="6697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FiatAdrian" descr=""/>
          <p:cNvPicPr/>
          <p:nvPr/>
        </p:nvPicPr>
        <p:blipFill>
          <a:blip r:embed="rId1"/>
          <a:stretch/>
        </p:blipFill>
        <p:spPr>
          <a:xfrm>
            <a:off x="6629400" y="3733920"/>
            <a:ext cx="230184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43640" y="206532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2.1- Categor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8195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Algunos conceptos esenciales: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El marketing hoy es más una batalla de categorías que de marc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Hay que pensar “¿que tiene de diferente mi producto?”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olo lo nuevo llama la atenció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i tiene un producto nuevo, pregúntese: “¿nuevo en qué categoría?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3366"/>
                </a:solidFill>
                <a:latin typeface="Verdana"/>
              </a:rPr>
              <a:t>Leyes de Posicion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06120" y="2185920"/>
            <a:ext cx="30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3366"/>
                </a:solidFill>
                <a:latin typeface="Verdana"/>
              </a:rPr>
              <a:t>3.- En la M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2819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Es preferible estar antes en la mente del consumidor que en el mercad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440" y="3086280"/>
            <a:ext cx="1886040" cy="360"/>
          </a:xfrm>
          <a:prstGeom prst="rect">
            <a:avLst/>
          </a:prstGeom>
          <a:solidFill>
            <a:srgbClr val="e9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98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5680" y="3086280"/>
            <a:ext cx="902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winFamLogo_XP" descr="Microsoft Windows XP"/>
          <p:cNvPicPr/>
          <p:nvPr/>
        </p:nvPicPr>
        <p:blipFill>
          <a:blip r:embed="rId1"/>
          <a:stretch/>
        </p:blipFill>
        <p:spPr>
          <a:xfrm>
            <a:off x="4724280" y="4191120"/>
            <a:ext cx="4000680" cy="801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838080" y="5257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Si somos primeros en el mercado con un producto creando una nueva categoría, y no lo comuni-camos, perdemos la oportunidad de ser primero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4:20:23Z</dcterms:created>
  <dc:creator> Marcelo Carbone</dc:creator>
  <dc:description/>
  <dc:language>en-US</dc:language>
  <cp:lastModifiedBy>Marcelo Carbone</cp:lastModifiedBy>
  <dcterms:modified xsi:type="dcterms:W3CDTF">2005-10-30T16:55:03Z</dcterms:modified>
  <cp:revision>20</cp:revision>
  <dc:subject/>
  <dc:title>Presentación de PowerPoint</dc:title>
</cp:coreProperties>
</file>