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26.png" ContentType="image/png"/>
  <Override PartName="/ppt/media/image33.gif" ContentType="image/gif"/>
  <Override PartName="/ppt/media/image5.jpeg" ContentType="image/jpeg"/>
  <Override PartName="/ppt/media/image7.gif" ContentType="image/gif"/>
  <Override PartName="/ppt/media/image9.gif" ContentType="image/gif"/>
  <Override PartName="/ppt/media/image13.png" ContentType="image/png"/>
  <Override PartName="/ppt/media/image12.png" ContentType="image/png"/>
  <Override PartName="/ppt/media/image30.png" ContentType="image/png"/>
  <Override PartName="/ppt/media/image25.png" ContentType="image/png"/>
  <Override PartName="/ppt/media/image2.gif" ContentType="image/gif"/>
  <Override PartName="/ppt/media/image32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gif" ContentType="image/gif"/>
  <Override PartName="/ppt/media/image20.jpeg" ContentType="image/jpeg"/>
  <Override PartName="/ppt/media/image19.png" ContentType="image/png"/>
  <Override PartName="/ppt/media/image17.gif" ContentType="image/gif"/>
  <Override PartName="/ppt/media/image22.png" ContentType="image/png"/>
  <Override PartName="/ppt/media/image18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31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B98-E9C2-48F4-907B-2B78E847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14C-6C8A-4971-B102-D8FF33C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CD1-6390-41BF-B5AE-B5187389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59-6F4F-43CC-BFF3-927B71C3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83C-CB25-4605-BB08-ED2294F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1B7-5643-4BFA-8B39-A1028C4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BF6-05A3-4B91-B0C9-2CC9E2A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1C8-4326-4C0D-8D7A-AA91EFD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221-2D1C-42B7-8AB0-0616D54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3D9-DAAB-4FD0-A6F6-B64B3CD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DF4-B72F-4831-A666-D052B40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2B0-5335-4594-BA16-F125F74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3720-FBE6-4EE4-9909-72C5B614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www.indec.mecon.ar/" TargetMode="External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Trabajo Práctico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umno: Mijail Kiek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ma elegido: Ec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ni: 35.324.6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rera: Licenciatura en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187164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e5d9"/>
            </a:gs>
            <a:gs pos="100000">
              <a:srgbClr val="cdf3c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539640" y="404640"/>
            <a:ext cx="7882560" cy="5634000"/>
            <a:chOff x="539640" y="404640"/>
            <a:chExt cx="7882560" cy="5634000"/>
          </a:xfrm>
        </p:grpSpPr>
        <p:cxnSp>
          <p:nvCxnSpPr>
            <p:cNvPr id="114" name="_s7183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4978080" y="2159640"/>
              <a:ext cx="1127520" cy="2123280"/>
            </a:xfrm>
            <a:prstGeom prst="bentConnector3">
              <a:avLst>
                <a:gd name="adj1" fmla="val 10412"/>
              </a:avLst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117" name="_s7181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2855880" y="2160360"/>
              <a:ext cx="1127520" cy="2122200"/>
            </a:xfrm>
            <a:prstGeom prst="bentConnector3">
              <a:avLst>
                <a:gd name="adj1" fmla="val 10412"/>
              </a:avLst>
            </a:prstGeom>
            <a:ln w="28440">
              <a:solidFill>
                <a:srgbClr val="333399"/>
              </a:solidFill>
              <a:miter/>
            </a:ln>
          </p:spPr>
        </p:cxnSp>
        <p:sp>
          <p:nvSpPr>
            <p:cNvPr id="116" name="_s7177"/>
            <p:cNvSpPr/>
            <p:nvPr/>
          </p:nvSpPr>
          <p:spPr>
            <a:xfrm>
              <a:off x="2661480" y="404640"/>
              <a:ext cx="3638160" cy="2253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Modelos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económicos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78"/>
            <p:cNvSpPr/>
            <p:nvPr/>
          </p:nvSpPr>
          <p:spPr>
            <a:xfrm>
              <a:off x="539640" y="3785040"/>
              <a:ext cx="3638160" cy="2253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Economías de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80"/>
            <p:cNvSpPr/>
            <p:nvPr/>
          </p:nvSpPr>
          <p:spPr>
            <a:xfrm>
              <a:off x="4784040" y="3785040"/>
              <a:ext cx="3638160" cy="2253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Economías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100" spc="-1" strike="noStrike">
                  <a:solidFill>
                    <a:srgbClr val="000000"/>
                  </a:solidFill>
                  <a:latin typeface="Arial"/>
                </a:rPr>
                <a:t>intervenidas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409840" cy="196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32720" y="119700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Mecanismos de intervención esta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jación de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35280" y="2979720"/>
            <a:ext cx="4584960" cy="343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1116000" y="4292640"/>
            <a:ext cx="117792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d4"/>
            </a:gs>
            <a:gs pos="100000">
              <a:srgbClr val="eeedd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42 Llamada de flecha izquierda y derecha"/>
          <p:cNvSpPr/>
          <p:nvPr/>
        </p:nvSpPr>
        <p:spPr>
          <a:xfrm>
            <a:off x="3276720" y="907920"/>
            <a:ext cx="2643120" cy="3668760"/>
          </a:xfrm>
          <a:custGeom>
            <a:avLst/>
            <a:gdLst>
              <a:gd name="textAreaLeft" fmla="*/ 914040 w 2643120"/>
              <a:gd name="textAreaRight" fmla="*/ 1729080 w 2643120"/>
              <a:gd name="textAreaTop" fmla="*/ 0 h 3668760"/>
              <a:gd name="textAreaBottom" fmla="*/ 3669120 h 3668760"/>
            </a:gdLst>
            <a:ahLst/>
            <a:rect l="textAreaLeft" t="textAreaTop" r="textAreaRight" b="textAreaBottom"/>
            <a:pathLst>
              <a:path w="21600" h="21600">
                <a:moveTo>
                  <a:pt x="7471" y="0"/>
                </a:moveTo>
                <a:lnTo>
                  <a:pt x="14129" y="0"/>
                </a:lnTo>
                <a:lnTo>
                  <a:pt x="14129" y="9047"/>
                </a:lnTo>
                <a:lnTo>
                  <a:pt x="18172" y="9047"/>
                </a:lnTo>
                <a:lnTo>
                  <a:pt x="18172" y="7699"/>
                </a:lnTo>
                <a:lnTo>
                  <a:pt x="21600" y="10800"/>
                </a:lnTo>
                <a:lnTo>
                  <a:pt x="18172" y="13901"/>
                </a:lnTo>
                <a:lnTo>
                  <a:pt x="18172" y="12553"/>
                </a:lnTo>
                <a:lnTo>
                  <a:pt x="14129" y="12553"/>
                </a:lnTo>
                <a:lnTo>
                  <a:pt x="14129" y="21600"/>
                </a:lnTo>
                <a:lnTo>
                  <a:pt x="7471" y="21600"/>
                </a:lnTo>
                <a:lnTo>
                  <a:pt x="7471" y="12553"/>
                </a:lnTo>
                <a:lnTo>
                  <a:pt x="3428" y="12553"/>
                </a:lnTo>
                <a:lnTo>
                  <a:pt x="3428" y="13901"/>
                </a:lnTo>
                <a:lnTo>
                  <a:pt x="0" y="10800"/>
                </a:lnTo>
                <a:lnTo>
                  <a:pt x="3428" y="7699"/>
                </a:lnTo>
                <a:lnTo>
                  <a:pt x="3428" y="9047"/>
                </a:lnTo>
                <a:lnTo>
                  <a:pt x="7471" y="9047"/>
                </a:lnTo>
                <a:close/>
              </a:path>
            </a:pathLst>
          </a:custGeom>
          <a:solidFill>
            <a:srgbClr val="bbe0e3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5 Llamada de flecha hacia abajo"/>
          <p:cNvSpPr/>
          <p:nvPr/>
        </p:nvSpPr>
        <p:spPr>
          <a:xfrm>
            <a:off x="395280" y="1268280"/>
            <a:ext cx="2448000" cy="3816360"/>
          </a:xfrm>
          <a:prstGeom prst="downArrowCallout">
            <a:avLst>
              <a:gd name="adj1" fmla="val 10594"/>
              <a:gd name="adj2" fmla="val 16301"/>
              <a:gd name="adj3" fmla="val 38974"/>
              <a:gd name="adj4" fmla="val 64977"/>
            </a:avLst>
          </a:prstGeom>
          <a:solidFill>
            <a:srgbClr val="bbe0e3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6 Llamada de flecha hacia abajo"/>
          <p:cNvSpPr/>
          <p:nvPr/>
        </p:nvSpPr>
        <p:spPr>
          <a:xfrm>
            <a:off x="6300720" y="1197000"/>
            <a:ext cx="2357640" cy="3887640"/>
          </a:xfrm>
          <a:prstGeom prst="downArrowCallout">
            <a:avLst>
              <a:gd name="adj1" fmla="val 9168"/>
              <a:gd name="adj2" fmla="val 13954"/>
              <a:gd name="adj3" fmla="val 41224"/>
              <a:gd name="adj4" fmla="val 64977"/>
            </a:avLst>
          </a:prstGeom>
          <a:solidFill>
            <a:srgbClr val="bbe0e3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492360" y="4869000"/>
            <a:ext cx="17798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966960"/>
            <a:ext cx="8135640" cy="50655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916560" y="30600"/>
            <a:ext cx="6955560" cy="6283080"/>
            <a:chOff x="916560" y="30600"/>
            <a:chExt cx="6955560" cy="6283080"/>
          </a:xfrm>
        </p:grpSpPr>
        <p:sp>
          <p:nvSpPr>
            <p:cNvPr id="131" name="_s10255"/>
            <p:cNvSpPr/>
            <p:nvPr/>
          </p:nvSpPr>
          <p:spPr>
            <a:xfrm flipH="1">
              <a:off x="2715840" y="4378320"/>
              <a:ext cx="842400" cy="48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54"/>
            <p:cNvSpPr/>
            <p:nvPr/>
          </p:nvSpPr>
          <p:spPr>
            <a:xfrm>
              <a:off x="916560" y="4380840"/>
              <a:ext cx="1932840" cy="19328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00"/>
                  </a:solidFill>
                  <a:latin typeface="Arial"/>
                </a:rPr>
                <a:t>Oligopol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53"/>
            <p:cNvSpPr/>
            <p:nvPr/>
          </p:nvSpPr>
          <p:spPr>
            <a:xfrm>
              <a:off x="5226840" y="4378320"/>
              <a:ext cx="839880" cy="48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52"/>
            <p:cNvSpPr/>
            <p:nvPr/>
          </p:nvSpPr>
          <p:spPr>
            <a:xfrm>
              <a:off x="5938560" y="4380840"/>
              <a:ext cx="1933560" cy="19328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00"/>
                  </a:solidFill>
                  <a:latin typeface="Arial"/>
                </a:rPr>
                <a:t>Monopol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251"/>
            <p:cNvSpPr/>
            <p:nvPr/>
          </p:nvSpPr>
          <p:spPr>
            <a:xfrm flipV="1">
              <a:off x="4392720" y="1960560"/>
              <a:ext cx="0" cy="9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250"/>
            <p:cNvSpPr/>
            <p:nvPr/>
          </p:nvSpPr>
          <p:spPr>
            <a:xfrm>
              <a:off x="3427560" y="30600"/>
              <a:ext cx="1932840" cy="19328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Competenc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Perfe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249"/>
            <p:cNvSpPr/>
            <p:nvPr/>
          </p:nvSpPr>
          <p:spPr>
            <a:xfrm>
              <a:off x="3427560" y="2932200"/>
              <a:ext cx="1932840" cy="1932840"/>
            </a:xfrm>
            <a:prstGeom prst="ellipse">
              <a:avLst/>
            </a:prstGeom>
            <a:solidFill>
              <a:srgbClr val="eeedde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00"/>
                  </a:solidFill>
                  <a:latin typeface="Arial Unicode MS"/>
                </a:rPr>
                <a:t>Merca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distribución de la riqu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eficiente de Gini: medida de la desigu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ejor distribución: Suecia (23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or distribución: Namibia (70.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gentina: 51.3 (puesto número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3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748188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ía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812360" cy="514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64360" y="404640"/>
            <a:ext cx="1438200" cy="89856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바탕"/>
              </a:rPr>
              <a:t>Participación en organismos internac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3" descr=""/>
          <p:cNvPicPr/>
          <p:nvPr/>
        </p:nvPicPr>
        <p:blipFill>
          <a:blip r:embed="rId3"/>
          <a:stretch/>
        </p:blipFill>
        <p:spPr>
          <a:xfrm>
            <a:off x="4932360" y="1557360"/>
            <a:ext cx="3097080" cy="218772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3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379116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3816360" cy="388800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rcado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3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83280" cy="466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2348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3" descr=""/>
          <p:cNvPicPr/>
          <p:nvPr/>
        </p:nvPicPr>
        <p:blipFill>
          <a:blip r:embed="rId2"/>
          <a:stretch/>
        </p:blipFill>
        <p:spPr>
          <a:xfrm>
            <a:off x="4464000" y="1341360"/>
            <a:ext cx="4680000" cy="484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105440" cy="451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87280" y="333360"/>
            <a:ext cx="5256360" cy="764280"/>
          </a:xfrm>
          <a:prstGeom prst="rect">
            <a:avLst/>
          </a:prstGeom>
          <a:solidFill>
            <a:srgbClr val="88b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 expor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95280" y="6021360"/>
            <a:ext cx="857160" cy="65736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inión de especia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62626"/>
                </a:solidFill>
                <a:uFillTx/>
                <a:latin typeface="Arial"/>
              </a:rPr>
              <a:t>TEMÁ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Interrog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Fluj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Mode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Mer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Economía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314520" cy="358776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427640" y="177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227664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285264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35772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3794"/>
                </a:moveTo>
                <a:lnTo>
                  <a:pt x="21478" y="10800"/>
                </a:lnTo>
                <a:lnTo>
                  <a:pt x="74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93372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3794"/>
                </a:moveTo>
                <a:lnTo>
                  <a:pt x="21383" y="10800"/>
                </a:lnTo>
                <a:lnTo>
                  <a:pt x="73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437000"/>
            <a:ext cx="287640" cy="21744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562" h="21600">
                <a:moveTo>
                  <a:pt x="0" y="0"/>
                </a:moveTo>
                <a:lnTo>
                  <a:pt x="28562" y="0"/>
                </a:lnTo>
                <a:lnTo>
                  <a:pt x="28562" y="21600"/>
                </a:lnTo>
                <a:lnTo>
                  <a:pt x="0" y="21600"/>
                </a:lnTo>
                <a:close/>
              </a:path>
              <a:path fill="lightenLess" w="28562" h="21600">
                <a:moveTo>
                  <a:pt x="0" y="0"/>
                </a:moveTo>
                <a:lnTo>
                  <a:pt x="28562" y="0"/>
                </a:lnTo>
                <a:lnTo>
                  <a:pt x="27162" y="1400"/>
                </a:lnTo>
                <a:lnTo>
                  <a:pt x="1400" y="1400"/>
                </a:lnTo>
                <a:close/>
              </a:path>
              <a:path fill="darken" w="28562" h="21600">
                <a:moveTo>
                  <a:pt x="28562" y="0"/>
                </a:moveTo>
                <a:lnTo>
                  <a:pt x="28562" y="21600"/>
                </a:lnTo>
                <a:lnTo>
                  <a:pt x="27162" y="20200"/>
                </a:lnTo>
                <a:lnTo>
                  <a:pt x="27162" y="1400"/>
                </a:lnTo>
                <a:close/>
              </a:path>
              <a:path fill="darkenLess" w="28562" h="21600">
                <a:moveTo>
                  <a:pt x="28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2" y="20200"/>
                </a:lnTo>
                <a:close/>
              </a:path>
              <a:path fill="lighten" w="28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62" h="21600">
                <a:moveTo>
                  <a:pt x="7275" y="3794"/>
                </a:moveTo>
                <a:lnTo>
                  <a:pt x="21287" y="10800"/>
                </a:lnTo>
                <a:lnTo>
                  <a:pt x="72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4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8136000" y="5950080"/>
            <a:ext cx="757080" cy="574560"/>
          </a:xfrm>
          <a:custGeom>
            <a:avLst/>
            <a:gdLst>
              <a:gd name="textAreaLeft" fmla="*/ 37080 w 757080"/>
              <a:gd name="textAreaRight" fmla="*/ 720000 w 757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8457" h="21600">
                <a:moveTo>
                  <a:pt x="0" y="0"/>
                </a:moveTo>
                <a:lnTo>
                  <a:pt x="28457" y="0"/>
                </a:lnTo>
                <a:lnTo>
                  <a:pt x="28457" y="21600"/>
                </a:lnTo>
                <a:lnTo>
                  <a:pt x="0" y="21600"/>
                </a:lnTo>
                <a:close/>
              </a:path>
              <a:path fill="lightenLess" w="28457" h="21600">
                <a:moveTo>
                  <a:pt x="0" y="0"/>
                </a:moveTo>
                <a:lnTo>
                  <a:pt x="28457" y="0"/>
                </a:lnTo>
                <a:lnTo>
                  <a:pt x="27057" y="1400"/>
                </a:lnTo>
                <a:lnTo>
                  <a:pt x="1400" y="1400"/>
                </a:lnTo>
                <a:close/>
              </a:path>
              <a:path fill="darken" w="28457" h="21600">
                <a:moveTo>
                  <a:pt x="28457" y="0"/>
                </a:moveTo>
                <a:lnTo>
                  <a:pt x="28457" y="21600"/>
                </a:lnTo>
                <a:lnTo>
                  <a:pt x="27057" y="20200"/>
                </a:lnTo>
                <a:lnTo>
                  <a:pt x="27057" y="1400"/>
                </a:lnTo>
                <a:close/>
              </a:path>
              <a:path fill="darkenLess" w="28457" h="21600">
                <a:moveTo>
                  <a:pt x="28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57" y="20200"/>
                </a:lnTo>
                <a:close/>
              </a:path>
              <a:path fill="lighten" w="28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57" h="21600">
                <a:moveTo>
                  <a:pt x="17728" y="10800"/>
                </a:moveTo>
                <a:lnTo>
                  <a:pt x="7222" y="17806"/>
                </a:lnTo>
                <a:lnTo>
                  <a:pt x="7222" y="3794"/>
                </a:lnTo>
                <a:close/>
              </a:path>
              <a:path fill="darken" w="28457" h="21600">
                <a:moveTo>
                  <a:pt x="19573" y="3794"/>
                </a:moveTo>
                <a:lnTo>
                  <a:pt x="19573" y="17806"/>
                </a:lnTo>
                <a:lnTo>
                  <a:pt x="21235" y="17806"/>
                </a:lnTo>
                <a:lnTo>
                  <a:pt x="2123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bliografí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dec.mecon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económica. Joseph Stig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untes de “Economía General”. UN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164360" y="5300640"/>
            <a:ext cx="1728720" cy="1297080"/>
          </a:xfrm>
          <a:custGeom>
            <a:avLst/>
            <a:gdLst>
              <a:gd name="textAreaLeft" fmla="*/ 83880 w 1728720"/>
              <a:gd name="textAreaRight" fmla="*/ 1644840 w 1728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14393" y="3837"/>
                </a:moveTo>
                <a:lnTo>
                  <a:pt x="16969" y="6448"/>
                </a:lnTo>
                <a:lnTo>
                  <a:pt x="16969" y="4707"/>
                </a:lnTo>
                <a:lnTo>
                  <a:pt x="18745" y="4707"/>
                </a:lnTo>
                <a:lnTo>
                  <a:pt x="18745" y="8224"/>
                </a:lnTo>
                <a:lnTo>
                  <a:pt x="21356" y="10800"/>
                </a:lnTo>
                <a:lnTo>
                  <a:pt x="19702" y="10800"/>
                </a:lnTo>
                <a:lnTo>
                  <a:pt x="19702" y="17989"/>
                </a:lnTo>
                <a:lnTo>
                  <a:pt x="9084" y="17989"/>
                </a:lnTo>
                <a:lnTo>
                  <a:pt x="9084" y="10800"/>
                </a:lnTo>
                <a:lnTo>
                  <a:pt x="7430" y="10800"/>
                </a:lnTo>
                <a:close/>
              </a:path>
              <a:path fill="darkenLess" w="28786" h="21600">
                <a:moveTo>
                  <a:pt x="16969" y="6448"/>
                </a:moveTo>
                <a:lnTo>
                  <a:pt x="16969" y="4707"/>
                </a:lnTo>
                <a:lnTo>
                  <a:pt x="18745" y="4707"/>
                </a:lnTo>
                <a:lnTo>
                  <a:pt x="18745" y="8224"/>
                </a:lnTo>
                <a:close/>
              </a:path>
              <a:path fill="darkenLess" w="28786" h="21600">
                <a:moveTo>
                  <a:pt x="13470" y="14299"/>
                </a:moveTo>
                <a:lnTo>
                  <a:pt x="15316" y="14299"/>
                </a:lnTo>
                <a:lnTo>
                  <a:pt x="15316" y="17989"/>
                </a:lnTo>
                <a:lnTo>
                  <a:pt x="19702" y="17989"/>
                </a:lnTo>
                <a:lnTo>
                  <a:pt x="19702" y="10800"/>
                </a:lnTo>
                <a:lnTo>
                  <a:pt x="9084" y="10800"/>
                </a:lnTo>
                <a:lnTo>
                  <a:pt x="9084" y="17989"/>
                </a:lnTo>
                <a:lnTo>
                  <a:pt x="134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908000" y="4437000"/>
            <a:ext cx="223236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19728600">
            <a:off x="3492000" y="4508280"/>
            <a:ext cx="1719360" cy="191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3300"/>
                </a:solidFill>
                <a:uFillTx/>
                <a:latin typeface="Arial"/>
              </a:rPr>
              <a:t>Objeto de estud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2880000" cy="125712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ecesidades ilimi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Flecha izquierda y derecha"/>
          <p:cNvSpPr/>
          <p:nvPr/>
        </p:nvSpPr>
        <p:spPr>
          <a:xfrm>
            <a:off x="2938320" y="2789280"/>
            <a:ext cx="2857680" cy="1071360"/>
          </a:xfrm>
          <a:prstGeom prst="left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ccecff"/>
              </a:gs>
              <a:gs pos="100000">
                <a:srgbClr val="bbe0e3">
                  <a:alpha val="35294"/>
                </a:srgbClr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7 CuadroTexto"/>
          <p:cNvSpPr/>
          <p:nvPr/>
        </p:nvSpPr>
        <p:spPr>
          <a:xfrm>
            <a:off x="5724360" y="2852640"/>
            <a:ext cx="3132360" cy="10688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00360" y="443700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1038240" cy="1228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659640" y="4005360"/>
            <a:ext cx="1409760" cy="1028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ee8"/>
            </a:gs>
            <a:gs pos="100000">
              <a:srgbClr val="b9e5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324000" y="476280"/>
            <a:ext cx="7560000" cy="5473080"/>
            <a:chOff x="324000" y="476280"/>
            <a:chExt cx="7560000" cy="5473080"/>
          </a:xfrm>
        </p:grpSpPr>
        <p:cxnSp>
          <p:nvCxnSpPr>
            <p:cNvPr id="65" name="_s4110"/>
            <p:cNvCxnSpPr>
              <a:stCxn id="66" idx="1"/>
              <a:endCxn id="67" idx="2"/>
            </p:cNvCxnSpPr>
            <p:nvPr/>
          </p:nvCxnSpPr>
          <p:spPr>
            <a:xfrm rot="10800000">
              <a:off x="2591280" y="1470600"/>
              <a:ext cx="756720" cy="398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109"/>
            <p:cNvCxnSpPr>
              <a:stCxn id="69" idx="1"/>
              <a:endCxn id="67" idx="2"/>
            </p:cNvCxnSpPr>
            <p:nvPr/>
          </p:nvCxnSpPr>
          <p:spPr>
            <a:xfrm rot="10800000">
              <a:off x="2591280" y="1470600"/>
              <a:ext cx="756720" cy="248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108"/>
            <p:cNvCxnSpPr>
              <a:stCxn id="71" idx="1"/>
              <a:endCxn id="67" idx="2"/>
            </p:cNvCxnSpPr>
            <p:nvPr/>
          </p:nvCxnSpPr>
          <p:spPr>
            <a:xfrm rot="10800000">
              <a:off x="2591280" y="1470600"/>
              <a:ext cx="756720" cy="99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4104"/>
            <p:cNvSpPr/>
            <p:nvPr/>
          </p:nvSpPr>
          <p:spPr>
            <a:xfrm>
              <a:off x="324000" y="476280"/>
              <a:ext cx="4536000" cy="99504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Arial"/>
                </a:rPr>
                <a:t>Recursos = Bien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105"/>
            <p:cNvSpPr/>
            <p:nvPr/>
          </p:nvSpPr>
          <p:spPr>
            <a:xfrm>
              <a:off x="3348000" y="1968840"/>
              <a:ext cx="4536000" cy="9950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egún su relación con el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106"/>
            <p:cNvSpPr/>
            <p:nvPr/>
          </p:nvSpPr>
          <p:spPr>
            <a:xfrm>
              <a:off x="3348000" y="3461400"/>
              <a:ext cx="4536000" cy="9950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egún su relación con el ingre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107"/>
            <p:cNvSpPr/>
            <p:nvPr/>
          </p:nvSpPr>
          <p:spPr>
            <a:xfrm>
              <a:off x="3348000" y="4954320"/>
              <a:ext cx="4536000" cy="9950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egún su relación con 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ien relacio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885080" y="1989000"/>
            <a:ext cx="719280" cy="86364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863640"/>
              <a:gd name="textAreaBottom" fmla="*/ 817200 h 863640"/>
            </a:gdLst>
            <a:ahLst/>
            <a:rect l="textAreaLeft" t="textAreaTop" r="textAreaRight" b="textAreaBottom"/>
            <a:pathLst>
              <a:path w="21600" h="25933">
                <a:moveTo>
                  <a:pt x="0" y="0"/>
                </a:moveTo>
                <a:lnTo>
                  <a:pt x="21600" y="0"/>
                </a:lnTo>
                <a:lnTo>
                  <a:pt x="21600" y="25933"/>
                </a:lnTo>
                <a:lnTo>
                  <a:pt x="0" y="25933"/>
                </a:lnTo>
                <a:close/>
              </a:path>
              <a:path fill="lightenLess" w="21600" h="25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33">
                <a:moveTo>
                  <a:pt x="21600" y="0"/>
                </a:moveTo>
                <a:lnTo>
                  <a:pt x="21600" y="25933"/>
                </a:lnTo>
                <a:lnTo>
                  <a:pt x="20200" y="24533"/>
                </a:lnTo>
                <a:lnTo>
                  <a:pt x="20200" y="1400"/>
                </a:lnTo>
                <a:close/>
              </a:path>
              <a:path fill="darkenLess" w="21600" h="25933">
                <a:moveTo>
                  <a:pt x="21600" y="25933"/>
                </a:moveTo>
                <a:lnTo>
                  <a:pt x="0" y="25933"/>
                </a:lnTo>
                <a:lnTo>
                  <a:pt x="1400" y="24533"/>
                </a:lnTo>
                <a:lnTo>
                  <a:pt x="20200" y="24533"/>
                </a:lnTo>
                <a:close/>
              </a:path>
              <a:path fill="lighten" w="21600" h="25933">
                <a:moveTo>
                  <a:pt x="0" y="25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33"/>
                </a:lnTo>
                <a:close/>
              </a:path>
              <a:path fill="darkenLess" w="21600" h="25933">
                <a:moveTo>
                  <a:pt x="5273" y="6151"/>
                </a:moveTo>
                <a:lnTo>
                  <a:pt x="12271" y="6151"/>
                </a:lnTo>
                <a:lnTo>
                  <a:pt x="16327" y="9650"/>
                </a:lnTo>
                <a:lnTo>
                  <a:pt x="16327" y="19781"/>
                </a:lnTo>
                <a:lnTo>
                  <a:pt x="5273" y="19781"/>
                </a:lnTo>
                <a:close/>
              </a:path>
              <a:path fill="darken" w="21600" h="25933">
                <a:moveTo>
                  <a:pt x="12271" y="6151"/>
                </a:moveTo>
                <a:lnTo>
                  <a:pt x="16327" y="9650"/>
                </a:lnTo>
                <a:lnTo>
                  <a:pt x="12271" y="96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885080" y="3573360"/>
            <a:ext cx="719280" cy="792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793">
                <a:moveTo>
                  <a:pt x="0" y="0"/>
                </a:moveTo>
                <a:lnTo>
                  <a:pt x="21600" y="0"/>
                </a:lnTo>
                <a:lnTo>
                  <a:pt x="21600" y="23793"/>
                </a:lnTo>
                <a:lnTo>
                  <a:pt x="0" y="23793"/>
                </a:lnTo>
                <a:close/>
              </a:path>
              <a:path fill="lightenLess" w="21600" h="237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93">
                <a:moveTo>
                  <a:pt x="21600" y="0"/>
                </a:moveTo>
                <a:lnTo>
                  <a:pt x="21600" y="23793"/>
                </a:lnTo>
                <a:lnTo>
                  <a:pt x="20200" y="22393"/>
                </a:lnTo>
                <a:lnTo>
                  <a:pt x="20200" y="1400"/>
                </a:lnTo>
                <a:close/>
              </a:path>
              <a:path fill="darkenLess" w="21600" h="23793">
                <a:moveTo>
                  <a:pt x="21600" y="23793"/>
                </a:moveTo>
                <a:lnTo>
                  <a:pt x="0" y="23793"/>
                </a:lnTo>
                <a:lnTo>
                  <a:pt x="1400" y="22393"/>
                </a:lnTo>
                <a:lnTo>
                  <a:pt x="20200" y="22393"/>
                </a:lnTo>
                <a:close/>
              </a:path>
              <a:path fill="lighten" w="21600" h="23793">
                <a:moveTo>
                  <a:pt x="0" y="237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93"/>
                </a:lnTo>
                <a:close/>
              </a:path>
              <a:path fill="darkenLess" w="21600" h="23793">
                <a:moveTo>
                  <a:pt x="5273" y="5082"/>
                </a:moveTo>
                <a:lnTo>
                  <a:pt x="12271" y="5082"/>
                </a:lnTo>
                <a:lnTo>
                  <a:pt x="16327" y="8581"/>
                </a:lnTo>
                <a:lnTo>
                  <a:pt x="16327" y="18712"/>
                </a:lnTo>
                <a:lnTo>
                  <a:pt x="5273" y="18712"/>
                </a:lnTo>
                <a:close/>
              </a:path>
              <a:path fill="darken" w="21600" h="23793">
                <a:moveTo>
                  <a:pt x="12271" y="5082"/>
                </a:moveTo>
                <a:lnTo>
                  <a:pt x="16327" y="8581"/>
                </a:lnTo>
                <a:lnTo>
                  <a:pt x="12271" y="85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885080" y="5013360"/>
            <a:ext cx="719280" cy="86364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863640"/>
              <a:gd name="textAreaBottom" fmla="*/ 817200 h 863640"/>
            </a:gdLst>
            <a:ahLst/>
            <a:rect l="textAreaLeft" t="textAreaTop" r="textAreaRight" b="textAreaBottom"/>
            <a:pathLst>
              <a:path w="21600" h="25933">
                <a:moveTo>
                  <a:pt x="0" y="0"/>
                </a:moveTo>
                <a:lnTo>
                  <a:pt x="21600" y="0"/>
                </a:lnTo>
                <a:lnTo>
                  <a:pt x="21600" y="25933"/>
                </a:lnTo>
                <a:lnTo>
                  <a:pt x="0" y="25933"/>
                </a:lnTo>
                <a:close/>
              </a:path>
              <a:path fill="lightenLess" w="21600" h="25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33">
                <a:moveTo>
                  <a:pt x="21600" y="0"/>
                </a:moveTo>
                <a:lnTo>
                  <a:pt x="21600" y="25933"/>
                </a:lnTo>
                <a:lnTo>
                  <a:pt x="20200" y="24533"/>
                </a:lnTo>
                <a:lnTo>
                  <a:pt x="20200" y="1400"/>
                </a:lnTo>
                <a:close/>
              </a:path>
              <a:path fill="darkenLess" w="21600" h="25933">
                <a:moveTo>
                  <a:pt x="21600" y="25933"/>
                </a:moveTo>
                <a:lnTo>
                  <a:pt x="0" y="25933"/>
                </a:lnTo>
                <a:lnTo>
                  <a:pt x="1400" y="24533"/>
                </a:lnTo>
                <a:lnTo>
                  <a:pt x="20200" y="24533"/>
                </a:lnTo>
                <a:close/>
              </a:path>
              <a:path fill="lighten" w="21600" h="25933">
                <a:moveTo>
                  <a:pt x="0" y="25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33"/>
                </a:lnTo>
                <a:close/>
              </a:path>
              <a:path fill="darkenLess" w="21600" h="25933">
                <a:moveTo>
                  <a:pt x="5273" y="6151"/>
                </a:moveTo>
                <a:lnTo>
                  <a:pt x="12271" y="6151"/>
                </a:lnTo>
                <a:lnTo>
                  <a:pt x="16327" y="9650"/>
                </a:lnTo>
                <a:lnTo>
                  <a:pt x="16327" y="19781"/>
                </a:lnTo>
                <a:lnTo>
                  <a:pt x="5273" y="19781"/>
                </a:lnTo>
                <a:close/>
              </a:path>
              <a:path fill="darken" w="21600" h="25933">
                <a:moveTo>
                  <a:pt x="12271" y="6151"/>
                </a:moveTo>
                <a:lnTo>
                  <a:pt x="16327" y="9650"/>
                </a:lnTo>
                <a:lnTo>
                  <a:pt x="12271" y="96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19715" y="10800"/>
                </a:moveTo>
                <a:lnTo>
                  <a:pt x="9210" y="17806"/>
                </a:lnTo>
                <a:lnTo>
                  <a:pt x="9210" y="3794"/>
                </a:lnTo>
                <a:close/>
              </a:path>
              <a:path fill="darken" w="32432" h="21600">
                <a:moveTo>
                  <a:pt x="21560" y="3794"/>
                </a:moveTo>
                <a:lnTo>
                  <a:pt x="21560" y="17806"/>
                </a:lnTo>
                <a:lnTo>
                  <a:pt x="23223" y="17806"/>
                </a:lnTo>
                <a:lnTo>
                  <a:pt x="2322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68360" y="620640"/>
            <a:ext cx="8173080" cy="5759280"/>
            <a:chOff x="468360" y="620640"/>
            <a:chExt cx="8173080" cy="5759280"/>
          </a:xfrm>
        </p:grpSpPr>
        <p:cxnSp>
          <p:nvCxnSpPr>
            <p:cNvPr id="77" name="_s30731"/>
            <p:cNvCxnSpPr>
              <a:stCxn id="78" idx="0"/>
              <a:endCxn id="79" idx="2"/>
            </p:cNvCxnSpPr>
            <p:nvPr/>
          </p:nvCxnSpPr>
          <p:spPr>
            <a:xfrm flipV="1" rot="16200000">
              <a:off x="5078880" y="2399400"/>
              <a:ext cx="1152360" cy="2200680"/>
            </a:xfrm>
            <a:prstGeom prst="bentConnector3">
              <a:avLst>
                <a:gd name="adj1" fmla="val 20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30730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2878920" y="2399040"/>
              <a:ext cx="1152360" cy="2201400"/>
            </a:xfrm>
            <a:prstGeom prst="bentConnector3">
              <a:avLst>
                <a:gd name="adj1" fmla="val 20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30726"/>
            <p:cNvSpPr/>
            <p:nvPr/>
          </p:nvSpPr>
          <p:spPr>
            <a:xfrm>
              <a:off x="2669400" y="620640"/>
              <a:ext cx="3772080" cy="230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Según el precio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30727"/>
            <p:cNvSpPr/>
            <p:nvPr/>
          </p:nvSpPr>
          <p:spPr>
            <a:xfrm>
              <a:off x="468360" y="4076280"/>
              <a:ext cx="3772080" cy="230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Típico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0728"/>
            <p:cNvSpPr/>
            <p:nvPr/>
          </p:nvSpPr>
          <p:spPr>
            <a:xfrm>
              <a:off x="4869360" y="4076280"/>
              <a:ext cx="3772080" cy="230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Atípico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885080" y="0"/>
            <a:ext cx="1258920" cy="620640"/>
          </a:xfrm>
          <a:custGeom>
            <a:avLst/>
            <a:gdLst>
              <a:gd name="textAreaLeft" fmla="*/ 39960 w 1258920"/>
              <a:gd name="textAreaRight" fmla="*/ 1218960 w 1258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3801" h="21600">
                <a:moveTo>
                  <a:pt x="0" y="0"/>
                </a:moveTo>
                <a:lnTo>
                  <a:pt x="43801" y="0"/>
                </a:lnTo>
                <a:lnTo>
                  <a:pt x="43801" y="21600"/>
                </a:lnTo>
                <a:lnTo>
                  <a:pt x="0" y="21600"/>
                </a:lnTo>
                <a:close/>
              </a:path>
              <a:path fill="lightenLess" w="43801" h="21600">
                <a:moveTo>
                  <a:pt x="0" y="0"/>
                </a:moveTo>
                <a:lnTo>
                  <a:pt x="43801" y="0"/>
                </a:lnTo>
                <a:lnTo>
                  <a:pt x="42401" y="1400"/>
                </a:lnTo>
                <a:lnTo>
                  <a:pt x="1400" y="1400"/>
                </a:lnTo>
                <a:close/>
              </a:path>
              <a:path fill="darken" w="43801" h="21600">
                <a:moveTo>
                  <a:pt x="43801" y="0"/>
                </a:moveTo>
                <a:lnTo>
                  <a:pt x="43801" y="21600"/>
                </a:lnTo>
                <a:lnTo>
                  <a:pt x="42401" y="20200"/>
                </a:lnTo>
                <a:lnTo>
                  <a:pt x="42401" y="1400"/>
                </a:lnTo>
                <a:close/>
              </a:path>
              <a:path fill="darkenLess" w="43801" h="21600">
                <a:moveTo>
                  <a:pt x="4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01" y="20200"/>
                </a:lnTo>
                <a:close/>
              </a:path>
              <a:path fill="lighten" w="4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01" h="21600">
                <a:moveTo>
                  <a:pt x="14894" y="10800"/>
                </a:moveTo>
                <a:lnTo>
                  <a:pt x="28907" y="3794"/>
                </a:lnTo>
                <a:lnTo>
                  <a:pt x="289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79280" y="404640"/>
            <a:ext cx="8424000" cy="5542200"/>
            <a:chOff x="179280" y="404640"/>
            <a:chExt cx="8424000" cy="5542200"/>
          </a:xfrm>
        </p:grpSpPr>
        <p:cxnSp>
          <p:nvCxnSpPr>
            <p:cNvPr id="84" name="_s32779"/>
            <p:cNvCxnSpPr>
              <a:stCxn id="85" idx="0"/>
              <a:endCxn id="86" idx="2"/>
            </p:cNvCxnSpPr>
            <p:nvPr/>
          </p:nvCxnSpPr>
          <p:spPr>
            <a:xfrm flipV="1" rot="16200000">
              <a:off x="4970880" y="2041200"/>
              <a:ext cx="1109160" cy="226800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2778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702880" y="2040840"/>
              <a:ext cx="1109160" cy="22690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32774"/>
            <p:cNvSpPr/>
            <p:nvPr/>
          </p:nvSpPr>
          <p:spPr>
            <a:xfrm>
              <a:off x="2447640" y="404640"/>
              <a:ext cx="3888000" cy="2216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400" spc="-1" strike="noStrike">
                  <a:solidFill>
                    <a:srgbClr val="000000"/>
                  </a:solidFill>
                  <a:latin typeface="Arial"/>
                </a:rPr>
                <a:t>Según ingreso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2775"/>
            <p:cNvSpPr/>
            <p:nvPr/>
          </p:nvSpPr>
          <p:spPr>
            <a:xfrm>
              <a:off x="179280" y="3729960"/>
              <a:ext cx="3888000" cy="2216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400" spc="-1" strike="noStrike">
                  <a:solidFill>
                    <a:srgbClr val="000000"/>
                  </a:solidFill>
                  <a:latin typeface="Arial"/>
                </a:rPr>
                <a:t>Normale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2776"/>
            <p:cNvSpPr/>
            <p:nvPr/>
          </p:nvSpPr>
          <p:spPr>
            <a:xfrm>
              <a:off x="4715280" y="3729960"/>
              <a:ext cx="3888000" cy="2216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400" spc="-1" strike="noStrike">
                  <a:solidFill>
                    <a:srgbClr val="000000"/>
                  </a:solidFill>
                  <a:latin typeface="Arial"/>
                </a:rPr>
                <a:t>Inferiore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028000" y="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10800"/>
                </a:moveTo>
                <a:lnTo>
                  <a:pt x="26421" y="3794"/>
                </a:lnTo>
                <a:lnTo>
                  <a:pt x="264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22200" y="404640"/>
            <a:ext cx="8352360" cy="6118200"/>
            <a:chOff x="322200" y="404640"/>
            <a:chExt cx="8352360" cy="6118200"/>
          </a:xfrm>
        </p:grpSpPr>
        <p:cxnSp>
          <p:nvCxnSpPr>
            <p:cNvPr id="91" name="_s31755"/>
            <p:cNvCxnSpPr>
              <a:stCxn id="92" idx="0"/>
              <a:endCxn id="93" idx="2"/>
            </p:cNvCxnSpPr>
            <p:nvPr/>
          </p:nvCxnSpPr>
          <p:spPr>
            <a:xfrm flipV="1" rot="16200000">
              <a:off x="5010480" y="2338920"/>
              <a:ext cx="1224360" cy="22489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754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2762280" y="2338560"/>
              <a:ext cx="1224360" cy="225000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1750"/>
            <p:cNvSpPr/>
            <p:nvPr/>
          </p:nvSpPr>
          <p:spPr>
            <a:xfrm>
              <a:off x="2571480" y="404640"/>
              <a:ext cx="3854880" cy="244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Según bien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relacionado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1751"/>
            <p:cNvSpPr/>
            <p:nvPr/>
          </p:nvSpPr>
          <p:spPr>
            <a:xfrm>
              <a:off x="322200" y="4075560"/>
              <a:ext cx="3854880" cy="244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Complementario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1752"/>
            <p:cNvSpPr/>
            <p:nvPr/>
          </p:nvSpPr>
          <p:spPr>
            <a:xfrm>
              <a:off x="4819680" y="4075560"/>
              <a:ext cx="3854880" cy="244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300" spc="-1" strike="noStrike">
                  <a:solidFill>
                    <a:srgbClr val="000000"/>
                  </a:solidFill>
                  <a:latin typeface="Arial"/>
                </a:rPr>
                <a:t>Sustitutivo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172360" y="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10800"/>
                </a:moveTo>
                <a:lnTo>
                  <a:pt x="22162" y="3794"/>
                </a:lnTo>
                <a:lnTo>
                  <a:pt x="221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 Diagrama" descr=""/>
          <p:cNvPicPr/>
          <p:nvPr/>
        </p:nvPicPr>
        <p:blipFill>
          <a:blip r:embed="rId2"/>
          <a:stretch/>
        </p:blipFill>
        <p:spPr>
          <a:xfrm>
            <a:off x="0" y="476280"/>
            <a:ext cx="8272440" cy="55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ff"/>
            </a:gs>
            <a:gs pos="100000">
              <a:srgbClr val="e6fe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Flujo circular de la 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86040" y="1974960"/>
            <a:ext cx="6817320" cy="3979800"/>
            <a:chOff x="986040" y="1974960"/>
            <a:chExt cx="6817320" cy="3979800"/>
          </a:xfrm>
        </p:grpSpPr>
        <p:sp>
          <p:nvSpPr>
            <p:cNvPr id="100" name="_s25617"/>
            <p:cNvSpPr/>
            <p:nvPr/>
          </p:nvSpPr>
          <p:spPr>
            <a:xfrm>
              <a:off x="2076480" y="1974960"/>
              <a:ext cx="4635360" cy="2706120"/>
            </a:xfrm>
            <a:custGeom>
              <a:avLst/>
              <a:gdLst>
                <a:gd name="textAreaLeft" fmla="*/ 0 w 4635360"/>
                <a:gd name="textAreaRight" fmla="*/ 4635720 w 4635360"/>
                <a:gd name="textAreaTop" fmla="*/ 0 h 2706120"/>
                <a:gd name="textAreaBottom" fmla="*/ 2706480 h 270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5619"/>
            <p:cNvSpPr/>
            <p:nvPr/>
          </p:nvSpPr>
          <p:spPr>
            <a:xfrm rot="5400000">
              <a:off x="4132080" y="1646280"/>
              <a:ext cx="2706120" cy="4636080"/>
            </a:xfrm>
            <a:custGeom>
              <a:avLst/>
              <a:gdLst>
                <a:gd name="textAreaLeft" fmla="*/ 0 w 2706120"/>
                <a:gd name="textAreaRight" fmla="*/ 2706480 w 2706120"/>
                <a:gd name="textAreaTop" fmla="*/ 0 h 4636080"/>
                <a:gd name="textAreaBottom" fmla="*/ 4636080 h 463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5612"/>
            <p:cNvSpPr/>
            <p:nvPr/>
          </p:nvSpPr>
          <p:spPr>
            <a:xfrm rot="10800000">
              <a:off x="2076480" y="3248280"/>
              <a:ext cx="4635360" cy="2706480"/>
            </a:xfrm>
            <a:custGeom>
              <a:avLst/>
              <a:gdLst>
                <a:gd name="textAreaLeft" fmla="*/ 0 w 4635360"/>
                <a:gd name="textAreaRight" fmla="*/ 4635720 w 4635360"/>
                <a:gd name="textAreaTop" fmla="*/ 0 h 2706480"/>
                <a:gd name="textAreaBottom" fmla="*/ 2706480 h 27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5611"/>
            <p:cNvSpPr/>
            <p:nvPr/>
          </p:nvSpPr>
          <p:spPr>
            <a:xfrm rot="16200000">
              <a:off x="1950480" y="1646280"/>
              <a:ext cx="2706120" cy="4635360"/>
            </a:xfrm>
            <a:custGeom>
              <a:avLst/>
              <a:gdLst>
                <a:gd name="textAreaLeft" fmla="*/ 0 w 2706120"/>
                <a:gd name="textAreaRight" fmla="*/ 2706480 w 2706120"/>
                <a:gd name="textAreaTop" fmla="*/ 0 h 4635360"/>
                <a:gd name="textAreaBottom" fmla="*/ 4635720 h 46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a9cacd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5609"/>
            <p:cNvSpPr/>
            <p:nvPr/>
          </p:nvSpPr>
          <p:spPr>
            <a:xfrm>
              <a:off x="1411920" y="2226960"/>
              <a:ext cx="17467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800" spc="-1" strike="noStrike">
                  <a:solidFill>
                    <a:srgbClr val="000000"/>
                  </a:solidFill>
                  <a:latin typeface="Arial"/>
                </a:rPr>
                <a:t>Mercado d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800" spc="-1" strike="noStrike">
                  <a:solidFill>
                    <a:srgbClr val="000000"/>
                  </a:solidFill>
                  <a:latin typeface="Arial"/>
                </a:rPr>
                <a:t>Fact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5610"/>
            <p:cNvSpPr/>
            <p:nvPr/>
          </p:nvSpPr>
          <p:spPr>
            <a:xfrm>
              <a:off x="1417680" y="4685760"/>
              <a:ext cx="17467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Unidades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su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5616"/>
            <p:cNvSpPr/>
            <p:nvPr/>
          </p:nvSpPr>
          <p:spPr>
            <a:xfrm>
              <a:off x="5627160" y="2223720"/>
              <a:ext cx="17467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Unidades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5618"/>
            <p:cNvSpPr/>
            <p:nvPr/>
          </p:nvSpPr>
          <p:spPr>
            <a:xfrm>
              <a:off x="5629680" y="4682520"/>
              <a:ext cx="17467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800" spc="-1" strike="noStrike">
                  <a:solidFill>
                    <a:srgbClr val="000000"/>
                  </a:solidFill>
                  <a:latin typeface="Arial"/>
                </a:rPr>
                <a:t>Mercado d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8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76720" y="3573360"/>
            <a:ext cx="2232000" cy="72072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8" idx="3"/>
            <a:endCxn id="101" idx="0"/>
          </p:cNvCxnSpPr>
          <p:nvPr/>
        </p:nvCxnSpPr>
        <p:spPr>
          <a:xfrm>
            <a:off x="5508360" y="3933360"/>
            <a:ext cx="937080" cy="11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0"/>
            <a:endCxn id="100" idx="0"/>
          </p:cNvCxnSpPr>
          <p:nvPr/>
        </p:nvCxnSpPr>
        <p:spPr>
          <a:xfrm flipV="1">
            <a:off x="4392360" y="2769480"/>
            <a:ext cx="13716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1"/>
            <a:endCxn id="103" idx="0"/>
          </p:cNvCxnSpPr>
          <p:nvPr/>
        </p:nvCxnSpPr>
        <p:spPr>
          <a:xfrm flipH="1" flipV="1">
            <a:off x="2347560" y="3887280"/>
            <a:ext cx="92952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2"/>
            <a:endCxn id="102" idx="0"/>
          </p:cNvCxnSpPr>
          <p:nvPr/>
        </p:nvCxnSpPr>
        <p:spPr>
          <a:xfrm flipH="1">
            <a:off x="4258440" y="4294080"/>
            <a:ext cx="13428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 advTm="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2:10:27Z</dcterms:created>
  <dc:creator>Mijail Kiektik</dc:creator>
  <dc:description>35.324.653
Licenciatura en Administración</dc:description>
  <cp:keywords>Economía</cp:keywords>
  <dc:language>en-US</dc:language>
  <cp:lastModifiedBy>Windows Xp SP3 Relax Edition 2</cp:lastModifiedBy>
  <dcterms:modified xsi:type="dcterms:W3CDTF">2010-07-07T23:26:44Z</dcterms:modified>
  <cp:revision>37</cp:revision>
  <dc:subject>Economía</dc:subject>
  <dc:title>Trabajo Práctico de Power Point</dc:title>
</cp:coreProperties>
</file>