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B49821-66DD-44E2-A581-3917E1522D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74D37-B8B3-4CDC-9B83-FE708E913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BD9BA2-DE1B-4AD3-A3E4-BB724D9FAE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9BF6EC-C399-4893-8926-6F51E80C47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4DCBE-1131-4A8E-92CB-BAEDB0194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4F5E0-51EE-4E77-AC33-D2485184A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5EBF3-AE7F-411B-9D0D-2B3ADCDDB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8514B-DC44-4EDD-89C4-FE3882B19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70F2C-95FD-4636-9D4C-8D958342A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820AB-5173-4A9C-AFCE-5C63ACFD3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4BA97-00B0-4D92-A70A-464E892E9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F7855-870B-43FE-A165-D2BBDF4AA5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2E883-0924-43EB-81FA-B031727B7E9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recho Constitucional Tributario</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inanzas y Derecho Tributario</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átedra Dr. Esteban Urresti</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djunta Mariana Pucciarello</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uente: Derecho constitutucional tributario, R. Spisso, Ed. Lexis Nexis Depalma, Bs.As., 20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rretroactividad de la ley fiscal</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rt. 3 C.Civil: leyes no tienen efecto retroactivo, salvo disposición en contrario. Retroactividad no puede afectar derechos adquirid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ango legal, salvo en materia penal (art. 18 C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ango constitucional en CN española y algunas constituciones provincia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Principio de igualdad, generalidad, proporcionalidad y progresividad</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gualdad delineada ya por Adam Smith y universalizada por la revolución francesa en la Declaración de los derechos del hombre y del ciudadano (1789).</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gualdad como generalidad: art. 16 C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ango constitucional (art. 75, inc. 22 C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rt. XXXVI Decl. Americana de los Derechos y Deberes del Homb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rt. 24 Pacto San José de Costa Ric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Principio de igualdad, generalidad, proporcionalidad y progresividad </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SJN, fall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3200" spc="-1" strike="noStrike">
                <a:solidFill>
                  <a:srgbClr val="000000"/>
                </a:solidFill>
                <a:latin typeface="Arial"/>
              </a:rPr>
              <a:t>Unanue” (1923): la igualdad significa impedir distinciones arbitrari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3200" spc="-1" strike="noStrike">
                <a:solidFill>
                  <a:srgbClr val="000000"/>
                </a:solidFill>
                <a:latin typeface="Arial"/>
              </a:rPr>
              <a:t>Guardian Assurance” (1927): no atenta contra la igualdad distinguir entre entes radicados y no radicados en el paí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Principio de igualdad, generalidad, proporcionalidad y progresividad</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gualdad como base de los tribut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da uno contribuye  en la medida de sus posibilida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traduce en contribuir en forma proporcional y progresiva a la capacidad económ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in capacidad económica no hay obligación de contribui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Principio de igualdad, generalidad, proporcionalidad y progresividad</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ines extrafiscales del tributo: algunos autores dicen que asignar a los tributos finalidades de política económica puede ser distorsivo de la igualdad y aconsejan recurrir a transferencias o subvenciones (Casado Oll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Principio de igualdad, generalidad, proporcionalidad y progresividad</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SJN: El principio de igualdad ante la ley consagrado por el art. 16 CN no es otra cosa que el derecho a que no se establezcan excepciones o privilegios que excluyan a unos de lo que se concede a otros en iguales circunstancias, de donde se sigue forzosamente que la verdadera igualdad consiste en aplicar la ley en los casos ocurrentes según las diferencias constitutivas de los mismos (Fallos 16:118; 123:106, entre otr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Principio de igualdad, generalidad, proporcionalidad y progresividad</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CSJN consideró razonables las distinciones hechas 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ributos que tienen en mira la capacidad económica del contribuyente, como los de carácter progresiv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aplicación de tasas diferentes según se trate de ausentes o presentes (en el paí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ravámenes progresivos a los latifundi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nos tiempo de prescipción para repetir tributos que para exigirlos por parte del Estad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yores tributos para los que crían caballos de carrera que para los destinados al trabaj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yores tributos para espectáculos de boxeo que para la promoción de ese deporte con fines de educación fís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Principio de igualdad, generalidad, proporcionalidad y progresividad</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SJN consideró irrazona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stinción en perjuicio del productor independiente de vino y las cooperativa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mpuesto aplicado en Tucumán sobre los que excedieran las cuotas de producción (1903)</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mpuesto inmobiliario aplicado a los bienes en condominio sin tener en cuenta la porción de cada condómino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mpuesto a la herencia sobre el total del acervo hereditario, con prescindencia de la parte efectivamente recibida por cada heredero</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Principio de igualdad, generalidad, proporcionalidad y progresividad</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enciones y beneficios fisca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ines fisca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ines extrafiscales:  fines de política económica que prescinden de la capacidad contributiva o no la consideran determinan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rt. 75, inc. 18 CN: cláusula del progres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terpretación exenciones: restrictiva (por ser privilegio), estricta (literal), extensiva (en favor de la promo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incipio de no confiscatoriedad</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rt. 17 CN: protección de la propieda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SJN, fallo “Bourdié c/ Municipalidad” (1925): todos los intereses apreciables que el hombre pueda poseer, fuera de su vida y de su libertad. Todo derecho que tenga un valor reconocido como tal por la ley, sea que se origine en las relaciones del derecho privado, sea que nazca de actos administrativos a condición de que su titular disponga de una acción contra cualquiera que intente interrumplirlo en su goce, así sea el Estado mism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incipio de legalidad</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rt. 19 Constitución Nacional: nadie puede ser obligado a hacer lo que la ley no manda ni privado de lo que ella no prohí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Gobierno en  nombre de la ley y conforme a sus prescripc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relaciona con el principio de certeza, de irretroactividad y de razonabilida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incipio de no confiscatoriedad</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SJN: un impuesto es confiscatorio y, por ende, incompatible con el derecho de propiedad cuando de la prueba rendida surja la absorción por el Estado de una parte sustancial de la rente o del capital grav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incipio de no confiscatoriedad</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mpuesto sobre bienes inmobiliar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consideró confiscatorio un tributo que afectara una parte sustancial de la renta producida por el inmueble mediante una correcta explot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estableció un porcentaje del 33% como tope, aunque en algunos casos se elevó al 5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incipio de no confiscatoriedad</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mpuesto a la transmisión gratuita de bie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CSJN descalificó tributos que absorbían parte sustancial del acervo hereditar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incipio de no confiscatoriedad</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tribución de mejoras: la CSJN señaló que para ser válido el tributo debe existir una prudente equivalencia entre el beneficio reportado por la obra pública y el gravamen creado para sufragarla, debiéndose considerar que una obra de interés general debe ser soportada por toda la sociedad y no sólo por determinados propietarios</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gr. un camino entre La Plata y Avellaneda (ley 3915)</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ey 4069 de 1930 se estableció que el 30% de la obra debía ser soportada por los inmuebles directamente valorizados y el 70% restante por el Estado provincial, no pudiendo la contribución ser superior al 30% del valor fiscal de los inmuebles</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tras veces se consideró el porcentaje de valorización de los inmuebles y se calculó el tributo sobre esa diferenc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incipio de no confiscatoriedad</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Ámbito de aplicación: se dice que no se aplica a los impuestos indirectos debido a que éstos son esencialmente trasladables. Por ende, si se recupera el valor del tributo en el precio, el patrimonio no sufre afectación ningu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incipio de no confiscatoriedad</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obre derechos de importación de mercaderías: si el Estado, por razones de promoción de los intereses económicos de la comunidad puede prohibir la introducción al país de productos extranjeros, con igual razón debe considerárselo habilitado para llegar a un resultado  semejante mediante el empleo de su poder tributario, instituyendo con finalidades disuasivas, gravámenes representativos de una  más veces el valor de la mercadería objeto de importación (CSJN, fallo “Montarcé”, 197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incipio de no confiscatoriedad</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tener la intangibilidad del capital: no hay tributo válido si no hay rentas reales o potenciales. Si el impuesto cae sobre el capital, lo destruye (Spiss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CSJN, sin embargo, avaló que algunos tributos inciden sobre el capit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Imposición sobre instrumentos de gobierno</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xención: el hecho o acto configura un hecho imponible, pero se lo dispensa de abonarl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 sujeción: el hecho o acto está fuera del hecho imponi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munidad: la exención viene calificada por disposición constitucional de manera expresa o táci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Inmunidad de los instrumentos de gobierno</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doctrina de la inmunidad intergubernamental de los instrumentos de gobierno se originó en EE.UU., en 1891, con el caso “Mc Culloch v. Maryland”, para proteger las actividades del Banco de EE.UU. contra la imposición de los Estad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su origen significó que en regímenes en los que coexisten varios niveles de gobierno (federal) el poder tributario del que cada nivel es titular no puede interferir en los planes de los otros poderes, y menos en el suprem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oy en día la doctrina está en declive y limitada sólo a evitar obstaculizar las reales funciones de los Est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Inmunidad de los instrumentos de gobierno</a:t>
            </a:r>
            <a:endParaRPr b="0" lang="en-US" sz="40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cto de San José de Flores: firmado el 11 de noviembre de 1859 luego de la batalla de Cepeda, por medio del cual Buenos Aires se declara parte de la Confederació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art. 7 hizo la reserva de conservar la Pcia. de Buenos Aires todas sus propiedades, incluido el Banco de la Provincia. Estas serían administradas y legisladas sólo por autoridades y normas provinciales. No se le aplican normas nacionales, salvo que lo consien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incipio de legalidad</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serva de ley: la materia tributaria está reervada a su ámbito exclusiv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serva de ley absoluta: la totalidad de las normas tributarias sustantivas (referidas a existencia, estructura y cuantía de la obligación tributaria) deben tener rango de ley (art. 17 C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serva de ley atenuada o relativa: la ley sólo debe regular los aspectos fundamentales de los tributos (España, Italia), es decir sujetos y hecho imponi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incipio de legalidad</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o taxation without representation: principio impuesto en 1215 al rey Juan Sin Tierra por los barones ingleses y plasmado en la Carta Magna, principio recogido luego en la Petición de Derechos (Petition of rights) y en la Declaración de Derechos (Bill of righ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incipio reconocido en España, Francia y posteriormente en toda Europ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volución francesa (1789): Decl. de los derechos del hombre y del ciudadan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E.UU. (1787): plasmado en la C.N. de decisiva influencia en los países de Amér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incipio de legalidad</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stitución Nacion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rt. 4: “contribuciones que equitativa  y proporcionalmente imponga ...el Congres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rt. 17: “sólo el Congreso impone las contribuciones” previstas en el art. 4</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rt. 75, inc.1: corresponde al Congreso legislar sobre aduanas exteriores y establecer los derechos de importación y exportació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incipio de legalidad</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75, inc. 2: Corresponde al Congreso “imponer contribuciones indirectas en concurrencia con las pcias.y directas por tiempo determinado y proporcionalmente iguales en todo el territ.de la Nación, siempre que la defensa, seguridad común y bien general del Estado lo exij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53: a la Cámara de Diputados corresponde exclusivamente la iniciativa sobre contribuciones y reclutamiento de trop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100, inc.7: El Jefe de Gabinete recauda las rentas de la Nación y ejecuta la ley de presupues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incipio de legalidad</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ppio. es de plena aplicación a las provinci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rt. 2 CN Córdoba: sólo la ley defi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echo imponib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tribuyen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ase imponib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lícuot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encion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fracciones y penalidad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niega aplicación analogí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incipio de legalidad</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eto parcial de la ley tributaria: art. 80 CN.  Sólo es posible si las normas promulgadas tienen autonomía y no alteran el espíritu ni la unidad de la ley que sancionó el Congreso. Este puede insistir con los 2/3 de los votos (art. 83 C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norma de sanción parcial (decreto) debe someterse al proceso de los DNU: el Jefe de Gabinete debe remitirlo a la comisión bicameral, que lo elevará previo dictamen, al plenario de cada Cámara para su consideración (art. 99, inc. 3 C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incipio de legalidad</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legación legislativa (art. 76 CN). Sólo en materia d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dministració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mergencia públic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diciones: plazo fijado para su ejercicio y dentro de las bases de la delegación que el Congreso establezc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materia penal y tributaria debe ser muy restrictiva (ver art. 99 inc. 3 referido a DNU).</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cretos refrendados por el Jefe de Gabinete y controlados por comisión bicameral (100 inc.1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1T01:06:51Z</dcterms:created>
  <dc:creator>Mariana</dc:creator>
  <dc:description/>
  <dc:language>en-US</dc:language>
  <cp:lastModifiedBy>Mariana Pucciarello</cp:lastModifiedBy>
  <dcterms:modified xsi:type="dcterms:W3CDTF">2009-09-22T01:45:56Z</dcterms:modified>
  <cp:revision>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